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456EE-4246-41FC-A608-C42EB567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66C70-1780-4C34-9026-4E2F2444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A9B47-C24E-4BF4-B07C-7534868F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AB79E-1CF0-4BE2-8B75-33C465C8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F1A0-4F4A-475A-8724-3B8B835D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4A58-3E17-44C5-A7BB-0CE0FCC4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B368-C9F2-4173-A9C2-61C62BEB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37B4-9A1B-4591-8415-6E00718B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E1A9-CD76-4CBB-827B-19A73125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E07F-4FBC-4360-8EA4-D498DBDE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CF0F-7177-4784-AAAD-F2EAF4F2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81841-EABA-46AC-881A-088FD67B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AD8B-76C0-4031-9174-368538F3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5896-86F5-447F-AD3A-2EFAA552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76ED-D396-44EC-9E9B-CB842F98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12CF-13B4-4F2F-B22C-640DFC8D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748E-7EB5-4343-868B-B1CDB1BF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87AFB-762A-4ED4-BF8E-02EF244A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EC0B8-D277-4248-94CB-CCF7D7D4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8FF3E-986F-4436-A868-BE1A0F22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B5A27-4B95-4B49-8D9F-75C5A217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E8198-2107-400C-8824-E4FE69D8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5B85-F5F2-4CAD-94DB-A1C9CC7B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5A6A0-9B9E-4777-9C20-01243CFF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E4CD-2C11-4EB9-83B0-FD1C200F2C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CAB4-448D-4711-B205-12CE1BB594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1828800"/>
            <a:ext cx="614844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я проверок в образовательных организациях по вопросам ПБ и норм выдачи С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4920" y="4869000"/>
            <a:ext cx="5761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актический семинар уполномоченных по ОТ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ерх-Исетской районной организации Профсоюза работников образ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partnery_3"/>
          <p:cNvPicPr/>
          <p:nvPr/>
        </p:nvPicPr>
        <p:blipFill>
          <a:blip r:embed="rId1"/>
          <a:stretch/>
        </p:blipFill>
        <p:spPr>
          <a:xfrm>
            <a:off x="7020000" y="4797360"/>
            <a:ext cx="179532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5"/>
          <p:cNvSpPr/>
          <p:nvPr/>
        </p:nvSpPr>
        <p:spPr>
          <a:xfrm>
            <a:off x="2771640" y="2492280"/>
            <a:ext cx="2952720" cy="115272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68360" y="692280"/>
            <a:ext cx="2952720" cy="115236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19640" y="4653000"/>
            <a:ext cx="3382920" cy="122400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 flipH="1" rot="16556400">
            <a:off x="898920" y="1556280"/>
            <a:ext cx="1944720" cy="1657440"/>
          </a:xfrm>
          <a:custGeom>
            <a:avLst/>
            <a:gdLst>
              <a:gd name="textAreaLeft" fmla="*/ 284760 w 1944720"/>
              <a:gd name="textAreaRight" fmla="*/ 1659960 w 1944720"/>
              <a:gd name="textAreaTop" fmla="*/ 242640 h 1657440"/>
              <a:gd name="textAreaBottom" fmla="*/ 1414800 h 16574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 flipH="1" rot="16556400">
            <a:off x="3292920" y="3600360"/>
            <a:ext cx="2451240" cy="1828800"/>
          </a:xfrm>
          <a:custGeom>
            <a:avLst/>
            <a:gdLst>
              <a:gd name="textAreaLeft" fmla="*/ 358920 w 2451240"/>
              <a:gd name="textAreaRight" fmla="*/ 2092320 w 2451240"/>
              <a:gd name="textAreaTop" fmla="*/ 267840 h 1828800"/>
              <a:gd name="textAreaBottom" fmla="*/ 1560960 h 182880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3924360" y="679320"/>
            <a:ext cx="5111640" cy="1405080"/>
          </a:xfrm>
          <a:prstGeom prst="roundRect">
            <a:avLst>
              <a:gd name="adj" fmla="val 26722"/>
            </a:avLst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Тема и сроки проверки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должны быть согласованы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на заседании П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Руководителю письменное уведомле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элемент соц.партн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 flipH="1" flipV="1" rot="20622000">
            <a:off x="982440" y="3220560"/>
            <a:ext cx="3241440" cy="3324240"/>
          </a:xfrm>
          <a:custGeom>
            <a:avLst/>
            <a:gdLst>
              <a:gd name="textAreaLeft" fmla="*/ 474480 w 3241440"/>
              <a:gd name="textAreaRight" fmla="*/ 2766960 w 3241440"/>
              <a:gd name="textAreaTop" fmla="*/ 486720 h 3324240"/>
              <a:gd name="textAreaBottom" fmla="*/ 2837520 h 33242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43588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РОЛЬ ЗА ОБЕСПЕЧЕНИЕМ РАБОТАЮЩИХ С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8560" y="1240920"/>
            <a:ext cx="878508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тандарта организации по обеспечению работников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ертификата качества на все виды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личных карточек учета-выдачи СИЗ и Си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ень  выданных СИЗ и СиОС работнику в соответствии с нормами, своевременность выдачи и 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сроков выдачи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СИЗ работаю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спецодежды (результаты опроса работающих, причины списания  в акт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Работодатель имеет пра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 учетом мнения выборного органа первичной профсоюзной организации или иного представительного органа работников и своего финансово-экономического положения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станавливать норм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бесплатной выдачи работникам специальной одежды, специальной обуви и других средств индивидуальной защиты,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лучшающие по сравнению с типовыми норм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ащиту работников от имеющихся на рабочих местах вредных и (или) опасных факторов, а также особых температурных условий или загрязн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по П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, исправность, доступность огнетушителей и пожарных рук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предупредительных плакатов и знаков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и состояние планов эвак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предметов, препятствующих движению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абочих местах, на лестничных клетках в коридорах, на путях эвакуаци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 и использование ЛВЖ и ГЖ, использование опасных хим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я и периодичность проведения инструктажей по П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тренировочных эваку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Акт  / 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,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провер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/или в присутствии ког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установлено провер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чания / нару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писи проверяющих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 или присутствующи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накомление должностных лиц с результатами под под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98100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оприятия по обеспечению СИЗ и по ПБ могут быть заложены и в СОГЛАШЕНИЕ по ОТ (Приложение к К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СИЗ +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12, 214, 219, 221 Трудового кодекс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здравсоцразвития России от 01.06.2009 N 290н в ред. от 12.01.2015)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"Об утверждении Межотраслевых правил обеспечения работников специальной одеждой, специальной обувью и другими средствами индивидуальной защиты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труда и социальной защиты РФ от 9 декабря 2014 г. N 997н «Об утверждении типовых норм бесплатной выдачи специальной одежды, специальной обуви и других средств индивидуальной защиты работникам сквозных профессий и должностей всех видов экономической деятельности, занятым на работах с вредными и (или) опасными условиями труда, а также на работах, выполняемых в особых температурных условиях или связанных с загрязнение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Ф от 17 декабря 2010 г. № 1122н “Об утверждении типовых норм бесплатной выдачи работникам смывающих и (или) обезвреживающих средств и стандарта безопасности труда «Обеспечение работников смывающими и (или) обезвреживающими средствами» (в ред. изм. от от 20.02.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 организации:   раздел  «Охрана  труда» и приложение по     обеспечению работающих С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ы АРМ / СО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Пожарная без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640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й закон от 21 декабря 1994 года № 69-ФЗ "О пожарной безопасности" (в ред. изм. от  23.06.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З от 22.07.2008 N 123  «Технический регламент о требованиях пожарной безопасности» (ред. от 03.07.201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от 25.04.2012 N 390 (ред. от 06.04.2016) "О противопожарном режиме" (вместе с "Правилами противопожарного режима в Российской Федерации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04-03 «Система оповещения и управления эвакуацией людей при пожарах в зданиях и сооружен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10-03 «Перечень зданий, сооружений, помещений и оборудования, подлежащих защите автоматическими установками пожаротушения и автоматической пожарной сигнализаци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Утратили силу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01-03 «Правила пожарной безопасности в РФ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101-89 «Правила пожарной безопасности для общеобразовательных школ, профессионально-технических училищ, школ-интернатов, детских домов, дошкольных, внешкольных и других учебно-воспитательных учрежд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640" y="620640"/>
            <a:ext cx="59868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ВСПОМНИТЬ ВСЁ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21b9a07f436a73da04b11f74b90e6444"/>
          <p:cNvPicPr/>
          <p:nvPr/>
        </p:nvPicPr>
        <p:blipFill>
          <a:blip r:embed="rId1"/>
          <a:stretch/>
        </p:blipFill>
        <p:spPr>
          <a:xfrm>
            <a:off x="1692360" y="2349360"/>
            <a:ext cx="55245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4140360" y="3500280"/>
            <a:ext cx="4030560" cy="2808360"/>
          </a:xfrm>
          <a:custGeom>
            <a:avLst/>
            <a:gdLst>
              <a:gd name="textAreaLeft" fmla="*/ 181800 w 4030560"/>
              <a:gd name="textAreaRight" fmla="*/ 3848760 w 4030560"/>
              <a:gd name="textAreaTop" fmla="*/ 181800 h 2808360"/>
              <a:gd name="textAreaBottom" fmla="*/ 2626560 h 2808360"/>
            </a:gdLst>
            <a:ahLst/>
            <a:rect l="textAreaLeft" t="textAreaTop" r="textAreaRight" b="textAreaBottom"/>
            <a:pathLst>
              <a:path w="30999" h="21600">
                <a:moveTo>
                  <a:pt x="0" y="0"/>
                </a:moveTo>
                <a:lnTo>
                  <a:pt x="30999" y="0"/>
                </a:lnTo>
                <a:lnTo>
                  <a:pt x="30999" y="21600"/>
                </a:lnTo>
                <a:lnTo>
                  <a:pt x="0" y="21600"/>
                </a:lnTo>
                <a:close/>
              </a:path>
              <a:path fill="lightenLess" w="30999" h="21600">
                <a:moveTo>
                  <a:pt x="0" y="0"/>
                </a:moveTo>
                <a:lnTo>
                  <a:pt x="30999" y="0"/>
                </a:lnTo>
                <a:lnTo>
                  <a:pt x="29599" y="1400"/>
                </a:lnTo>
                <a:lnTo>
                  <a:pt x="1400" y="1400"/>
                </a:lnTo>
                <a:close/>
              </a:path>
              <a:path fill="darken" w="30999" h="21600">
                <a:moveTo>
                  <a:pt x="30999" y="0"/>
                </a:moveTo>
                <a:lnTo>
                  <a:pt x="30999" y="21600"/>
                </a:lnTo>
                <a:lnTo>
                  <a:pt x="29599" y="20200"/>
                </a:lnTo>
                <a:lnTo>
                  <a:pt x="29599" y="1400"/>
                </a:lnTo>
                <a:close/>
              </a:path>
              <a:path fill="darkenLess" w="30999" h="21600">
                <a:moveTo>
                  <a:pt x="309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99" y="20200"/>
                </a:lnTo>
                <a:close/>
              </a:path>
              <a:path fill="lighten" w="309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СИ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3961080" cy="2519280"/>
          </a:xfrm>
          <a:custGeom>
            <a:avLst/>
            <a:gdLst>
              <a:gd name="textAreaLeft" fmla="*/ 163080 w 3961080"/>
              <a:gd name="textAreaRight" fmla="*/ 3798000 w 3961080"/>
              <a:gd name="textAreaTop" fmla="*/ 163080 h 2519280"/>
              <a:gd name="textAreaBottom" fmla="*/ 2356200 h 251928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П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омера вопросов по теме «ПОЖАРНАЯ БЕЗОПАСНОС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 flipH="1">
            <a:off x="97164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 flipH="1">
            <a:off x="5869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 flipH="1">
            <a:off x="97164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 flipH="1">
            <a:off x="2268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 flipH="1">
            <a:off x="3492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 flipH="1">
            <a:off x="464328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 flipH="1">
            <a:off x="5940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 flipH="1">
            <a:off x="7164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 flipH="1">
            <a:off x="97164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 flipH="1">
            <a:off x="2268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 flipH="1">
            <a:off x="3492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 flipH="1">
            <a:off x="457200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 flipH="1">
            <a:off x="5869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1"/>
          <p:cNvSpPr/>
          <p:nvPr/>
        </p:nvSpPr>
        <p:spPr>
          <a:xfrm flipH="1">
            <a:off x="7093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 flipH="1">
            <a:off x="97164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 flipH="1">
            <a:off x="2268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4"/>
          <p:cNvSpPr/>
          <p:nvPr/>
        </p:nvSpPr>
        <p:spPr>
          <a:xfrm flipH="1">
            <a:off x="3492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8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1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5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а вопросов по теме «СИЗ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55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12400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34800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427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5724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6948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82692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12400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3348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449892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5796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4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7280" y="620640"/>
            <a:ext cx="698508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e"/>
                </a:solidFill>
                <a:latin typeface="Arial"/>
              </a:rPr>
              <a:t>КОРОТКО О ГЛАВНО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%D0%9F%D0%BE%D0%B4%D0%B2%D0%B5%D0%B4%D1%83-%D0%B8%D1%82%D0%BE%D0%B3-768x576"/>
          <p:cNvPicPr/>
          <p:nvPr/>
        </p:nvPicPr>
        <p:blipFill>
          <a:blip r:embed="rId1"/>
          <a:stretch/>
        </p:blipFill>
        <p:spPr>
          <a:xfrm>
            <a:off x="2411280" y="2133720"/>
            <a:ext cx="55152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705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e"/>
                </a:solidFill>
                <a:latin typeface="Arial"/>
              </a:rPr>
              <a:t>Основные задачи уполномоченного по охране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755640" y="1650600"/>
            <a:ext cx="777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Содействие работодателю и иным должностным лицам в создании в структурном подразделении (организации) здоровых и безопасных условий труда, соответствующих требованиям норм и правил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- Осуществление контроля за состоянием охраны труда в организации (структурном подразделении) и соблюдением законных прав и интересов работников в области охраны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Представление интересов работников при рассмотрении трудовых споров, связанных с применением законодательства об охране труда, выполнением работодателем обязательств, установленных коллективным договором и мероприятий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Консультирование работников по вопросам охраны труда, оказание им помощи по защите их прав на охрану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8:08:05Z</dcterms:created>
  <dc:creator>Юрий</dc:creator>
  <dc:description/>
  <dc:language>en-US</dc:language>
  <cp:lastModifiedBy>Бажова Оксана Викторовна</cp:lastModifiedBy>
  <dcterms:modified xsi:type="dcterms:W3CDTF">2016-11-10T06:44:01Z</dcterms:modified>
  <cp:revision>17</cp:revision>
  <dc:subject/>
  <dc:title>Организация проверок в ОО по вопросам ПБ и норм выдачи СИЗ </dc:title>
</cp:coreProperties>
</file>