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022C-F209-4769-B07F-0879B3E0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453C5-3CDC-4084-B8F1-7E41059F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BCC5C-8AF3-4D4A-9F81-0C89EE70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B34E-45E7-4DA2-A69E-8C91E28B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2372-5BE3-4111-AE86-5A18BDAA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2F6C-1289-4C1B-AFC8-15C90434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4A08-9D43-47FE-A09A-2DCC1BBC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B3BB-C5E9-4F6F-900F-B717DA2F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A2E8-E4A2-482A-B2C9-CBCB724C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3083-E137-4B3F-B488-294AC143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74BF-3713-4EC4-888C-99B38C35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B576-416D-4B50-B43E-46E1F0D1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64F1-D68F-4C68-819D-867E0C1E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506D-62A5-4B99-BC4C-4E6F7128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054E-5584-4926-9123-3786EE56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EDB6-CBD9-436B-9F0D-A1265384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FBC9-07BF-46F9-A276-DC14C7C7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D4E8-D413-40D4-9187-24DB401D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929C-88C9-4921-9F49-C82827C5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A527-91E2-47DF-B8C5-2DA5AD63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7FFD-2A4A-4422-99CB-CAAE0D6A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74BA-03B5-4ED5-BCC0-F494073B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81FF-FF79-42D0-A6AC-F32504E3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6F3F-FFA7-4B37-AEB6-79E15671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CEAF-D299-4A2E-B97E-EACE0CAD88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25FF-0E40-447B-9CC4-766EF52F6B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я проверок в образовательных организациях по вопросам ПБ и норм выдачи С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869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актический семинар уполномоченных по ОТ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ерх-Исетской районной организации Профсоюза работников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artnery_3"/>
          <p:cNvPicPr/>
          <p:nvPr/>
        </p:nvPicPr>
        <p:blipFill>
          <a:blip r:embed="rId1"/>
          <a:stretch/>
        </p:blipFill>
        <p:spPr>
          <a:xfrm>
            <a:off x="7020000" y="47973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5"/>
          <p:cNvSpPr/>
          <p:nvPr/>
        </p:nvSpPr>
        <p:spPr>
          <a:xfrm>
            <a:off x="2771640" y="2492280"/>
            <a:ext cx="2952720" cy="115272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692280"/>
            <a:ext cx="2952720" cy="115236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19640" y="4653000"/>
            <a:ext cx="3382920" cy="122400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H="1" rot="16556400">
            <a:off x="898920" y="1556280"/>
            <a:ext cx="1944720" cy="165744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42640 h 1657440"/>
              <a:gd name="textAreaBottom" fmla="*/ 1414800 h 16574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H="1" rot="16556400">
            <a:off x="3292920" y="3600360"/>
            <a:ext cx="2451240" cy="1828800"/>
          </a:xfrm>
          <a:custGeom>
            <a:avLst/>
            <a:gdLst>
              <a:gd name="textAreaLeft" fmla="*/ 358920 w 2451240"/>
              <a:gd name="textAreaRight" fmla="*/ 2092320 w 245124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924360" y="679320"/>
            <a:ext cx="5111640" cy="1405080"/>
          </a:xfrm>
          <a:prstGeom prst="roundRect">
            <a:avLst>
              <a:gd name="adj" fmla="val 26722"/>
            </a:avLst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Тема и сроки проверки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должны быть согласованы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на заседании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Руководителю письменное уведом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элемент соц.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flipH="1" flipV="1" rot="20622000">
            <a:off x="982440" y="3220560"/>
            <a:ext cx="3241440" cy="3324240"/>
          </a:xfrm>
          <a:custGeom>
            <a:avLst/>
            <a:gdLst>
              <a:gd name="textAreaLeft" fmla="*/ 474480 w 3241440"/>
              <a:gd name="textAreaRight" fmla="*/ 2766960 w 3241440"/>
              <a:gd name="textAreaTop" fmla="*/ 486720 h 3324240"/>
              <a:gd name="textAreaBottom" fmla="*/ 2837520 h 33242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ОБЕСПЕЧЕНИЕМ РАБОТАЮЩИХ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8560" y="1240920"/>
            <a:ext cx="8785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тандарта организации по обеспечению работников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ертификата качества на все виды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личных карточек учета-выдачи СИЗ и Си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ень  выданных СИЗ и СиОС работнику в соответствии с нормами, своевременность выдачи и 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сроков выдачи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ИЗ работ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спецодежды (результаты опроса работающих, причины списания  в акт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Работодатель имеет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 учетом мнения выборного органа первичной профсоюзной организации или иного представительного органа работников и своего финансово-экономического положения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станавливать нор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есплатной выдачи работникам специальной одежды, специальной обуви и других средств индивидуальной защиты,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лучшающие по сравнению с типовыми нор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щиту работников от имеющихся на рабочих местах вредных и (или) опасных факторов, а также особых температурных условий или загряз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по П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, исправность, доступность огнетушителей и пожарных рук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едупредительных плакатов и знак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и состояние планов эвак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едметов, препятствующих движ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их местах, на лестничных клетках в коридорах, на путях эвакуац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и использование ЛВЖ и ГЖ, использование опасных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и периодичность проведения инструктажей по П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тренировочных эваку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Акт  / 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,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овер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/или в присутствии к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становлено прове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ния /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и проверяющи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 или присутствующ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должностных лиц с результатами под под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981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обеспечению СИЗ и по ПБ могут быть заложены и в СОГЛАШЕНИЕ по ОТ (Приложение к К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СИЗ +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12, 214, 219, 221 Трудового кодекс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здравсоцразвития России от 01.06.2009 N 290н в ред. от 12.01.2015)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"Об утверждении Межотраслевых правил обеспечения работников специальной одеждой, специальной обувью и другими средствами индивидуальной защит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труда и социальной защиты РФ от 9 декабря 2014 г. N 997н «Об утверждении типовых норм бесплатной выдачи специальной одежды, специальной обуви и других средств индивидуальной защиты работникам сквозных профессий и должностей всех видов экономической деятельности, занятым на работах с вредными и (или) опасными условиями труда, а также на работах, выполняемых в особых температурных условиях или связанных с загрязнени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Ф от 17 декабря 2010 г. № 1122н “Об утверждении типовых норм бесплатной выдачи работникам смывающих и (или) обезвреживающих средств и стандарта безопасности труда «Обеспечение работников смывающими и (или) обезвреживающими средствами» (в ред. изм. от от 20.02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 организации:   раздел  «Охрана  труда» и приложение по     обеспечению работающих С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ы АРМ / СО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от 21 декабря 1994 года № 69-ФЗ "О пожарной безопасности" (в ред. изм. от  23.06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 от 22.07.2008 N 123  «Технический регламент о требованиях пожарной безопасности» (ред. от 03.07.20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25.04.2012 N 390 (ред. от 06.04.2016) "О противопожарном режиме" (вместе с "Правилами противопожарного режима в Российской Федераци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04-03 «Система оповещения и управления эвакуацией людей при пожарах в зданиях и сооруж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10-03 «Перечень зданий, сооружений, помещений и оборудования, подлежащих защите автоматическими установками пожаротушения и автоматической пожарной сигнализац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Утратили силу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01-03 «Правила пожарной безопасност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101-89 «Правила пожарной безопасности для общеобразовательных школ, профессионально-технических училищ, школ-интернатов, детских домов, дошкольных, внешкольных и других учебно-воспит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59868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ВСПОМНИТЬ ВСЁ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21b9a07f436a73da04b11f74b90e6444"/>
          <p:cNvPicPr/>
          <p:nvPr/>
        </p:nvPicPr>
        <p:blipFill>
          <a:blip r:embed="rId1"/>
          <a:stretch/>
        </p:blipFill>
        <p:spPr>
          <a:xfrm>
            <a:off x="1692360" y="234936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140360" y="3500280"/>
            <a:ext cx="4030560" cy="2808360"/>
          </a:xfrm>
          <a:custGeom>
            <a:avLst/>
            <a:gdLst>
              <a:gd name="textAreaLeft" fmla="*/ 181800 w 4030560"/>
              <a:gd name="textAreaRight" fmla="*/ 3848760 w 403056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30999" h="21600">
                <a:moveTo>
                  <a:pt x="0" y="0"/>
                </a:moveTo>
                <a:lnTo>
                  <a:pt x="30999" y="0"/>
                </a:lnTo>
                <a:lnTo>
                  <a:pt x="30999" y="21600"/>
                </a:lnTo>
                <a:lnTo>
                  <a:pt x="0" y="21600"/>
                </a:lnTo>
                <a:close/>
              </a:path>
              <a:path fill="lightenLess" w="30999" h="21600">
                <a:moveTo>
                  <a:pt x="0" y="0"/>
                </a:moveTo>
                <a:lnTo>
                  <a:pt x="30999" y="0"/>
                </a:lnTo>
                <a:lnTo>
                  <a:pt x="29599" y="1400"/>
                </a:lnTo>
                <a:lnTo>
                  <a:pt x="1400" y="1400"/>
                </a:lnTo>
                <a:close/>
              </a:path>
              <a:path fill="darken" w="30999" h="21600">
                <a:moveTo>
                  <a:pt x="30999" y="0"/>
                </a:moveTo>
                <a:lnTo>
                  <a:pt x="30999" y="21600"/>
                </a:lnTo>
                <a:lnTo>
                  <a:pt x="29599" y="20200"/>
                </a:lnTo>
                <a:lnTo>
                  <a:pt x="29599" y="1400"/>
                </a:lnTo>
                <a:close/>
              </a:path>
              <a:path fill="darkenLess" w="30999" h="21600">
                <a:moveTo>
                  <a:pt x="30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9" y="20200"/>
                </a:lnTo>
                <a:close/>
              </a:path>
              <a:path fill="lighten" w="30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СИ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3961080" cy="2519280"/>
          </a:xfrm>
          <a:custGeom>
            <a:avLst/>
            <a:gdLst>
              <a:gd name="textAreaLeft" fmla="*/ 163080 w 3961080"/>
              <a:gd name="textAreaRight" fmla="*/ 3798000 w 3961080"/>
              <a:gd name="textAreaTop" fmla="*/ 163080 h 2519280"/>
              <a:gd name="textAreaBottom" fmla="*/ 2356200 h 251928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П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омера вопросов по теме «ПОЖАРНАЯ БЕЗОПАС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 flipH="1">
            <a:off x="97164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 flipH="1">
            <a:off x="5869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flipH="1">
            <a:off x="97164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 flipH="1">
            <a:off x="2268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flipH="1">
            <a:off x="3492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flipH="1">
            <a:off x="464328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 flipH="1">
            <a:off x="5940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 flipH="1">
            <a:off x="7164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 flipH="1">
            <a:off x="97164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 flipH="1">
            <a:off x="2268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 flipH="1">
            <a:off x="3492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flipH="1">
            <a:off x="457200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 flipH="1">
            <a:off x="5869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 flipH="1">
            <a:off x="7093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 flipH="1">
            <a:off x="97164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 flipH="1">
            <a:off x="2268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"/>
          <p:cNvSpPr/>
          <p:nvPr/>
        </p:nvSpPr>
        <p:spPr>
          <a:xfrm flipH="1">
            <a:off x="3492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а вопросов по теме «СИ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55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2400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34800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24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948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82692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12400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48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892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796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698508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e"/>
                </a:solidFill>
                <a:latin typeface="Arial"/>
              </a:rPr>
              <a:t>КОРОТКО О ГЛАВН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%D0%9F%D0%BE%D0%B4%D0%B2%D0%B5%D0%B4%D1%83-%D0%B8%D1%82%D0%BE%D0%B3-768x576"/>
          <p:cNvPicPr/>
          <p:nvPr/>
        </p:nvPicPr>
        <p:blipFill>
          <a:blip r:embed="rId1"/>
          <a:stretch/>
        </p:blipFill>
        <p:spPr>
          <a:xfrm>
            <a:off x="2411280" y="2133720"/>
            <a:ext cx="5515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Основные задачи уполномоченного по охране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55640" y="165060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Содействие работодателю и иным должностным лицам в создании в структурном подразделении (организации) здоровых и безопасных условий труда, соответствующих требованиям норм и правил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- Осуществление контроля за состоянием охраны труда в организации (структурном подразделении) и соблюдением законных прав и интересов работников в области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Представление интересов работников при рассмотрении трудовых споров, связанных с применением законодательства об охране труда, выполнением работодателем обязательств, установленных коллективным договором и мероприятий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Консультирование работников по вопросам охраны труда, оказание им помощи по защите их прав на охрану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8:08:05Z</dcterms:created>
  <dc:creator>Юрий</dc:creator>
  <dc:description/>
  <dc:language>en-US</dc:language>
  <cp:lastModifiedBy>Бажова Оксана Викторовна</cp:lastModifiedBy>
  <dcterms:modified xsi:type="dcterms:W3CDTF">2016-11-10T06:44:01Z</dcterms:modified>
  <cp:revision>17</cp:revision>
  <dc:subject/>
  <dc:title>Организация проверок в ОО по вопросам ПБ и норм выдачи СИЗ </dc:title>
</cp:coreProperties>
</file>