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0E7-0892-4623-A44D-D8966E47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73E-F300-4E63-B845-9D217E2B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0C7D0-74E5-4433-AC7A-A3FA1D51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97F79-650B-421B-BE93-C9C23E2B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5AA5D-E2D9-43BE-94CC-5F419426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3934F-3B4B-47E2-A4F3-6EA35FB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CE664-F718-4F68-91E3-FEED6DC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FF6CA-AFE5-414D-997F-EBA441F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77F95-B0C8-4BFB-B04F-6A547423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79ED3-DE9C-4FAD-B223-6834E382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8A8DB-69C6-4CC6-BA7F-73228510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5AB6E-6A50-429B-A038-ECCB084B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22F-EC9F-4037-A677-6184CF22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031A0-0227-489F-ABB5-70A7E2D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ADC55-454A-4FC9-AB2B-88FACF21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0AF12-6C3D-4F00-BE09-58D610DB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3DC39-DDDD-4C2F-BEF2-D0B70B5C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BFC93-CA45-441C-95EF-65F1EFCF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623BA-1231-4E3D-B11F-F8B9193F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784BF-EA9F-49AA-9750-54FAA2B6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47AFE-7106-4155-A79B-352A0012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92EB5-CDBC-49ED-B0D9-3350452B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D1629-022C-4CDA-BA65-4B1864BE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EAB-E6EE-4734-85B7-C5D20BB3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14EA0-523B-40B0-93AA-2102B4CD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4678D-3B09-48AA-B70D-7D40BBFC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5CFE6-DFCB-4AD3-B08A-46398F49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2414F-4E16-4768-B8E7-CABA7BA0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1DCC6-E75F-4339-A8DF-568D60BE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6444-525F-4DD5-BDD6-CD2FF85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DB543-D958-4553-AE9C-3E5003C0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9F6EB-67C9-4898-9EA8-8D303866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D8666-2D63-43DE-8DB3-43F1271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DCCDC-F580-4133-894C-E7DBFA5F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23EF-C271-42A9-8C60-8607210D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D83DE-610D-4D97-AE85-9A6A7206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F76FD-9D86-4952-B68A-3F1E53D9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46DB3-1987-4E5F-A3F0-93F87178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26CDD-5D89-4D37-BFB5-7EAB066A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36BC7-1FE6-4AB6-884D-6AC4E08D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85B15-45AF-4142-A8AC-EB56A7C3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D7C5E-7316-4091-9951-88DB0D2E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7CB37-926C-487B-8151-ED6CE476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EA462-2AA3-437F-980E-78CE844E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90227-66F0-4E66-916A-D45D925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255F-5100-4472-B717-21A8EE50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47456-BC8A-4DB5-8625-ED826E40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8A09E-0D2A-4911-8B9C-072AD2E7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74F7A-B4DA-4D78-86F3-A94F892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FCCB1-7B71-4534-AD91-D09C7219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AAF3B-39FB-407E-ADB6-1F7BF61C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670C-BE77-4F46-98D3-1ACDB4F3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BA45-E809-49CF-9AC3-82DBDB3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C4C1-51BC-404C-B37D-88197247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907E-D538-47EB-8D7F-FE95BC8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8829-1131-407C-B511-DF4CA2B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C8B-DFF1-4144-B0F8-A1D6EB8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84A-FA68-4B65-ADB8-213FCBE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EB64-374E-472B-B484-BB528341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01F4-FE49-4B0D-BFA1-E6FF048B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8A0C-17AD-4F07-87B0-8D803E67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E7B2-B61A-467D-BFFB-54A6DC40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38DF-7F71-4924-B092-FC88A3BF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BAEB-43E8-4A3A-A181-DF5218F4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6FC7-1BAE-42F1-8C34-804E31D7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E210-A356-4977-9EFE-AC32D7F7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4C24-1065-4E0D-B0F7-B97D5EEE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0CC-B19B-4B67-892A-F3FAA7AE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AD6C-F0A8-4FBF-8F80-9A893A8C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6CA0-FBBC-45F9-BC60-0A2920E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6418-AEA2-4DBF-897B-5829172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0FE4-8F13-417E-8DA2-9A3C3CC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D5A0-49D1-41D8-AB59-C02A9252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79F9-5167-4150-A452-83C56A15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C14A-2731-4140-B071-2D4829AB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608B-5CCE-4D1B-B681-8A74B9E1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62C8-DCD5-4BB6-BE4F-810A8899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A0E5-B70C-49B9-94DB-205253F5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9DD-A090-4940-B4F9-3CCD17F9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BEE4-EF25-4D96-B2F3-5E22E79A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5FA7-9CCB-41CB-B296-5545E55F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02E6-F06D-464D-A990-C5920B43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1AE0C-3AA7-46BF-8B14-7D867A84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A439-CEF2-4CC4-9837-9055529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CCBD-4842-447C-BE9F-48B235C6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F675-E22D-4880-878D-933C65AD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932C-A48B-439C-A8B9-20C8A7CF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5FD6-E80D-42A7-B623-2DDBB5F8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BDCA-C6D3-4B9F-B1A9-55B3BD10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D1B-8E6E-4BB2-B525-FAE3BCBF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1B03-12ED-42A7-885A-736EC515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7A01E-E0C1-4B98-86DF-DB31113A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D9A2-3CB6-4B96-AC5E-3310077D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FCCEE-9BCE-4F04-9E95-DB5F6686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860E1-53EF-4F26-938F-6F4DAB13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B6D6-D677-43F4-B8FE-2648213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9CAFE-E3AD-4809-820E-12A6B34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13662-F689-428B-B3DF-698E7178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6544-9511-4D3D-B7E3-176ED002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B68B8-5E81-47E0-8ED6-53D94688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45A-2CBB-4895-8586-22A9FCCD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E1800-F201-4B4D-876A-09289019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A5A9-4D4A-4F72-9AC7-426196D0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72BC-C77A-4C04-98FC-18BBC251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ADC93-6FFF-4672-A839-24A8C29B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B5027-ACB2-47E4-AEFD-0B5FE691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63E0E-96A5-423E-A4FD-4507F8EB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B2E08-DA50-4D8A-870A-73C6065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536F4-3EEF-40AC-90F7-1C2639F7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8EBC4-83F6-4AC4-95D3-F249FC3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27FA0-415E-4DC5-8732-BEDB574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88B-702A-43C6-8150-D3F4EDBD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FBCC9-CC14-4202-8443-1CD1C2D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55CE6-8FE5-4AA3-9857-D3EE1E31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DDA7-54D5-455E-800A-D20C5624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1B3F3-3C83-454E-ADF9-62A8FE49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4780-1B42-46B6-8B16-33E39BD9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71B89-F795-4A05-A0C3-D7A28FE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73E0-5F3D-4E3B-B561-9B9A3170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5DA1-AC04-4A63-B99B-A650D67D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86C1-3CF7-4FF1-AD5C-EA52A3E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35B3C-2D4F-41F8-B5A7-4BB2BF1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517-3541-432D-AA8D-92C1F39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60220-B993-4EDE-9248-90015DE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20F74-3AF3-4857-9F22-FB9CA6C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35341-EADC-427D-A21F-6BF7D706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81D6A-5273-4E09-8E55-E16BCA4B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4069-8861-418A-B8CD-800E9935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44530-E7BB-40A1-8D74-9E7DCFA4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DA1F-F5E9-4DE8-A494-366EE61D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3DFC2-2AB6-4A3A-88A3-6D0052AC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BA570-DC45-4285-8716-0C550EE6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08391-E45A-4BC2-BC4C-00382490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131-04E5-490D-A830-099DF0A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132ED-9959-4ED3-B7EE-FFD6ABB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7104A-5265-4711-A78C-68EE216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2FF31-297F-4891-B9DC-67CD057B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25676-1769-4E38-B5DA-559845CB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BAF65-83D0-49FC-93B2-B8F46C90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7E706-3D4A-4068-BBB8-DA1D2F10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EDD47-7ED3-4466-A99C-D164D5ED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71BA7-BC05-4E58-82F3-3EE12937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AA431-A473-43F3-9CD0-D1A8BBAA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9468B-BDA6-4020-A420-12F63B5A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A009-7753-4F02-B5AE-40977630657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290-0481-455B-8D80-BDD21D683A7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E958-1962-40E1-AB02-F9E7ECB543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46D4-27FD-4933-B036-91439F7A215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227-A597-4A9E-955A-70FDA48E42F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B71B-8388-4CAC-80CD-81C1934E316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F25E-F065-4CF1-B1E3-028633E02A1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E1A-A79B-466A-93E3-7A14E88A9A5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E0FE-1240-4247-AC48-EAC95DC519B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BCA0-E446-498A-867C-0477E13947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446-838C-45BE-89B7-9BE20A8F8AB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BA9A-A785-4655-A908-9FB52F74778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64535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4360" y="100008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285840"/>
            <a:ext cx="8501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Правила финансового обеспечения предупредительных мер по сокращению производственного травматизма и профессиональных заболе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5" descr="&amp;Rcy;&amp;ocy;&amp;scy;&amp;tcy;&amp;rcy;&amp;ucy;&amp;dcy; &amp;vcy;&amp;ocy;&amp;scy;&amp;scy;&amp;tcy;&amp;acy;&amp;ncy;&amp;ocy;&amp;vcy;&amp;icy;&amp;lcy; &amp;pcy;&amp;rcy;&amp;acy;&amp;vcy;&amp;acy; &amp;bcy;&amp;ocy;&amp;lcy;&amp;iecy;&amp;iecy; 1000 &amp;rcy;&amp;acy;&amp;bcy;&amp;ocy;&amp;tcy;&amp;ncy;&amp;icy;&amp;kcy;&amp;ocy;&amp;vcy; &amp;gcy;&amp;iecy;&amp;ocy;&amp;fcy;&amp;icy;&amp;zcy;&amp;icy;&amp;chcy;&amp;iecy;&amp;scy;&amp;kcy;&amp;ocy;&amp;gcy;&amp;ocy; &amp;pcy;&amp;rcy;&amp;iecy;&amp;dcy;&amp;pcy;&amp;rcy;&amp;icy;&amp;yacy;&amp;tcy;&amp;icy;&amp;yacy;"/>
          <p:cNvPicPr/>
          <p:nvPr/>
        </p:nvPicPr>
        <p:blipFill>
          <a:blip r:embed="rId1"/>
          <a:stretch/>
        </p:blipFill>
        <p:spPr>
          <a:xfrm>
            <a:off x="596880" y="2114640"/>
            <a:ext cx="7662960" cy="31636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6"/>
          <p:cNvSpPr/>
          <p:nvPr/>
        </p:nvSpPr>
        <p:spPr>
          <a:xfrm>
            <a:off x="4786200" y="550080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заместитель директора по АХЧ МБВ(С)ОУ В(С)ОШ № 185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Ожогова В.П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СИЗ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и смывающие сред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приобретаемых СИЗ с указанием профессий (должностей) работников, норм выдачи СИЗ со ссылкой на соответствующий пункт типовых норм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СИЗ, приобретаемых с учетом результатов проведения специальной оценки условий труда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закона от 28 декабря 2013 г. N 426-ФЗ "О специальной оценке условий труда" (Собрание законодательства Российской Федерации, 2013, N 52, ст. 6991) порядком, не истек, то с учетом аттестации рабочих мест по условиям труда), с указанием профессий (должностей) работников, норм выдачи СИЗ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632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Территориальный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рган Фонда принимает решение об отказе в финансовом обеспечении предупредительных мер в следующих случаях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сли у страхователя имеются недоимка по уплате страховых взносов, пени и штрафы, не погашенные на день подачи страхователем заявления в территориальный орган Фонда по месту своей регистрац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едставленные документы содержат недостоверную информац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если предусмотренные бюджетом Фонда средства на финансовое обеспечение предупредительных мер на текущий год полностью распределены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едставлении страхователем неполного комплекта док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финансовом обеспечении предупредительных мер по другим основаниям не допускает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тветственность учрежд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хователь ведет в установленном порядке учет средств, направленных на финансовое обеспечение предупредительных мер в счет уплаты страховых взносов, и ежеквартально представляет в территориальный орган Фонда отчет об их использован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завершения запланированных мероприятий страхователь представляет в территориальный орган Фонда документы, подтверждающие произведенные расх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Спасибо 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Нормативно-правовая баз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ИНИСТЕРСТВО ТРУДА И СОЦИАЛЬНОЙ ЗАЩИТЫ РОССИЙСКОЙ ФЕДЕРАЦИИ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КА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т 10 декабря 2012 г. N 580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в ред.от 20.02.2014г.)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Б УТВЕРЖДЕНИИ ПРАВИ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ФИНАНСОВОГО ОБЕСПЕЧЕНИЯ ПРЕДУПРЕДИТЕЛЬНЫХ МЕР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 СОКРАЩЕНИЮ ПРОИЗВОДСТВЕННОГО ТРАВМАТИЗМ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ПРОФЕССИОНАЛЬНЫХ ЗАБОЛЕВАНИЙ РАБОТНИКОВ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САНАТОРНО-КУРОРТНОГО ЛЕЧЕНИЯ РАБОТНИКОВ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НЯТЫХ НА РАБОТАХ С ВРЕДНЫМИ И (ИЛИ) ОПАСНЫМ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ОИЗВОДСТВЕННЫМИ ФАКТОРАМИ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85480"/>
            <a:ext cx="8534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Финансирование мероприят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 СОУ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учение по охране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работникам СИЗ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наторно-курортное леч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обязательных периодических медицинских осмотров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аптечек для оказания первой помощ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еспечение лечебно-профилактическим питание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ликвидация вредных факторов на рабочем мест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 друг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Алгоритм действ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Содержимое 3" descr=""/>
          <p:cNvPicPr/>
          <p:nvPr/>
        </p:nvPicPr>
        <p:blipFill>
          <a:blip r:embed="rId1"/>
          <a:stretch/>
        </p:blipFill>
        <p:spPr>
          <a:xfrm>
            <a:off x="334800" y="1352520"/>
            <a:ext cx="83822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образец заявле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28760" y="150012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фирменном бланке учрежден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г. Екатеринбург, Чапаева, 23б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у филиала № 1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ГУ - Свердловского региональн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отделения ФСС РФ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Иванченко Ю.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Сведения о страхователе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Муниципальное  бюджетное вечернее (сменное) общеобразовательное учреждение вечерняя (сменная) общеобразовательная школа № 185 (МБВ(С)ОУ В(С)ОШ  № 185)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Регистрационный номер страхователя:  661150153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Прошу рассчитать сумму финансового обеспечения предупредительных мер по сокращению производственного травматизма и профессиональных заболеваний в 2015 год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 МБВ(С)ОУ В(С)ОШ № 185                                В.М.Виноградов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«28» февраля 2015 год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Исп.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Уполномоченный по социальному страхованию Ожогова В.П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тел. 8-908-925-78-16, 245-42-00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Для получения финансового обеспечения предупредительных мер страхователи должны представить в исполнительный орган Фонда пакет документов:</a:t>
            </a:r>
            <a:br>
              <a:rPr sz="18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935000"/>
            <a:ext cx="82580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заявление о финансовом обеспечении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план финансового обеспечения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копия (выписка из) коллективного договора (соглашения по охране труда между работодателем и представительным органом работников) и (или) копия плана мероприятий по улучшению и оздоровлению условий труда в организации, разработанного по результатам аттестации рабочих мест по условиям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документы, обосновывающие финансовую необходимость выбранных предупредительных ме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56760"/>
            <a:ext cx="8485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Проведение специальной оценки условий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локального нормативного акта о создании комиссии по проведению специальной оценки условий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гражданско-правового договора с организацией, проводящей специальную оценку условий труда, с указанием количества рабочих мест, в отношении которых проводится специальная оценка условий труда, и стоимости проведения специальной оценки условий труда на указанном количестве рабочих мес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429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реализация</a:t>
            </a:r>
            <a:r>
              <a:rPr b="0" lang="ru-RU" sz="1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</a:t>
            </a: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, подтверждающего превышение предельно допустимых уровней воздействия вредных и (или) опасных производственных факторов на соответствующих рабочих местах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</a:t>
            </a:r>
            <a:r>
              <a:rPr b="0" lang="ru-RU" sz="1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закона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от 28 декабря 2013 г. N 426-ФЗ "О специальной оценке условий труда" (Собрание законодательства Российской Федерации, 2013, N 52, ст. 6991) порядком, не истек, то представляются копии отчета о проведении аттестации рабочих мест по условиям труда)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 на соответствующих рабочих местах после реализации соответствующих мероприятий и свидетельствующего о снижении класса (подкласса) условий труда на соответствующих рабочих местах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и документов, подтверждающих приобретение организацией соответствующего оборудования и проведение работ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случае включения в план финансового обеспечения предупредительных мер мероприятий, не требующих приобретения оборудования, - копию договора на проведение соответствующих работ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4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543"/>
                </a:solidFill>
                <a:latin typeface="Georg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900" spc="-1" strike="noStrike">
                <a:solidFill>
                  <a:srgbClr val="323543"/>
                </a:solidFill>
                <a:latin typeface="Georgia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Обучение по охране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договор на обучение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чёт на оплату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ограммы обучения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уведомление о внесении в реестр Минсоцздравразвития аккредитованных организаций, оказывающих услуги в области охраны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правлении работников на обучение по охране труда с отрывом от производств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писок работников, направляемых на обучение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значении ответственного лица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1T04:55:46Z</dcterms:modified>
  <cp:revision>99</cp:revision>
  <dc:subject/>
  <dc:title>проведение аттестации рабочих мест по условиям труда;</dc:title>
</cp:coreProperties>
</file>