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70FA-10CA-4B55-8AB0-0F6BFBB67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0661-9381-4CC6-A1C5-DEB2ECF0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81D8ED-530D-437E-847D-8FBDF2D7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F87214-15F1-4650-81C1-8CCCB9A3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0C075A-4005-4865-93FE-1E1269B0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356C43-9F8B-4E0B-AB9E-71223A3A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DB6B7E-B661-4A66-9724-34EB6194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CF8DC6-2E02-41F5-9BB1-7E6284C2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026836-78A6-4FC3-BD27-C162945F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4392D2-C423-4D8F-90E0-590761D32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7E17D5-FC28-4C6A-A4E1-D82413302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9EB4B3-5237-47DB-84E5-736BA5C04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8EC7-C8E0-4B5C-A6F0-91E458B54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436A1C-F805-4A65-88FD-BE4D0E66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736842-D90A-479F-A6AD-C33BBD71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265AB4-8A9A-46EF-9926-F5D22C5B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F52FF9-8139-448A-A97D-4428AF71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828DBB-660D-43E5-AFE2-BF95C56B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A1DC78-FE41-499C-815A-84EA271D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E638BB-3C3C-4A92-9745-7DC8558B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D7218F-8999-4654-9883-B9C62DC8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3B3F58-9E1A-4E6A-825A-FB8A688C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12EA8B-19FF-4913-BB19-012437730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3FFC-BF23-4FF7-8CEE-C90764E89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A856B6-A20F-4CD0-AB99-1D2D50A12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6E3DF-5639-4E76-9A39-298862756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77E8A-FD5A-4538-A103-6C183503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4B2F3-C318-4774-8B3A-464DE00A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96F85-09CD-4B14-B0C1-C92B9F3A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2A3B0-B2AB-4682-A81D-9DC36FC8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8E5B3-AFF0-45B3-BE8C-23C66589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B6F31-EF58-48F8-B1ED-24C65D24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FCB55-0681-46A7-AD0B-60B40E38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276D0-98EF-4D4A-8742-FA2C3E21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ABB9-FEF4-4ED5-8C08-ED8D39B8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0DF20-F288-4EC0-8C95-A0A7193C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23C12A-281D-4FA1-9F3D-EA19F6D6A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8CF70-9445-4E33-B7D2-A5583ECAD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A6DD33-0F82-41BA-9C9B-13D4094A3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ECE63E-479B-4426-A2A9-D6304C82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287697-4888-4E37-B868-437F525A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0A8532-E696-495E-83F2-4921F437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210773-CDA2-4E20-8D22-FC33CD94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BDE8CF-5226-4A6B-82E6-E3FE3FCC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3F1ED8-2577-4DC9-859B-9EE8D691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F6EA-A00E-4252-9B5E-2E7D6F1B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52664F-863C-4D89-AD52-A96827AE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1C2F0D-ED5E-4C67-ABA7-5529EBCC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AA6F50-6BE6-4026-B005-890C4C85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781633-7872-4F6D-B4FC-D090B1A01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9FFBDF-EFD0-422A-869F-801DA4817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0C5A-E08C-4BDB-968D-25247FC4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7067-05CB-428D-840B-E7EC5CCA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401C-0B0E-4F27-97F6-DDBD723E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688E-8091-4BFC-88CF-789DDA12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80EF-36BC-43A9-ABB8-0EBB0AE5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CBA7-C830-4974-8858-8118C9AA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99BB-181E-47B5-9E22-A106FCB1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29A3-73C9-41AD-A63C-3A9E0090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EE06-E80F-41F9-B0AE-00BE14DB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1BF1C-429F-479C-B45A-62AD7BB8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CC06-2327-4200-AC7D-8D947A87E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F9658-FB62-411D-AC36-F55BE4242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59521-A6D1-4F8F-847C-930B0909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6C03D-2E57-45F2-A396-7D26098C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F2BB8-F521-4C73-8922-0AD6486E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0C966-9265-4387-931E-99F26C05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C055-DB2F-4BD9-B537-92074395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E8B1E-3CBF-4D4B-A4CB-45C229B7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CA6B9-E49A-4268-A293-8D6912B5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EED0E-4FD4-454A-B09F-88492D35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DD9DF-2B59-4400-BE70-433BC764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6D2E7-6A36-452E-A11D-13E7B956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3E85D-8FD1-45A6-BF93-D06EDF9A1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B8E84-BAD6-465B-A294-12E2D76D9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AC926-33D8-4ECA-BC5C-16B0F661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E934C-018E-4509-BDC5-C3337144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2DA0D-311E-4008-BBCA-0C019093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736E-F202-4E86-82F7-EFCE880B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75424-69B6-448C-B9C2-5D7B1F11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9C13F-2E5B-46A7-90F6-6AFA393B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0C1F1-0E31-45A4-B517-E48AE790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49401-B53E-4B84-82B0-8249E648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0B354-2F55-4E30-85F1-5BD6FC76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6E1A8-0F9F-427D-A82C-76B31937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54698-2FBC-43DC-8B07-3255EFE3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46A3F-31D7-4A99-9A93-4C35641F0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99BF6-91AD-4541-81A9-8C81E9C12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6CFA8-DFFA-4097-916E-D5C7E097E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E87D-12AE-468A-87AA-1D81B7F1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A97F8-B683-4AF8-9A9D-271BE5FD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71FBC-E1E4-4ADC-AAD0-337276B7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854A3-A648-4555-9E59-34726897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8CD0D-9B88-4433-9E66-6A43CF05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5778C-BCBA-47F1-9C2E-86E239BB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AD49A-6583-4879-8252-C4704AD4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56C87-802A-40CB-99D2-88940607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50288-B25D-46C7-A3B4-0E8EB2BB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F5290-F025-4716-86CF-5E356FC7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FC91F-9C30-4C8A-98EC-237EEEF7F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B34B-AD19-4F61-95EA-22947380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C87F1-E3B2-41AD-A1EC-872A40E00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BAC46-7AB1-4484-A40F-B3494358B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853FE-6E95-4B73-83BE-4B38D11C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5E22D-B3B3-414D-B9F4-19B4BB88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B2613-4E79-4B3D-AAD4-50B85193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89C1F-CE8B-4F33-81E2-775F9940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3641C-708A-4FD8-94FA-445DBD5D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46730-668E-4AE2-AE2F-06794992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9C071-A551-486D-8D17-519EDC5B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38B4A-996D-441C-8AC9-29CB77C5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FD30-5764-4B3C-9A8E-D0B4AD7E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74638-1377-41C9-9C07-01267E2B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60789-383F-4A3F-BB50-2356363C8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019BD-8DCB-4F65-8019-8A3B831F0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9E6AA-F6D6-483D-9FFD-825741500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CC672-526C-4141-A9C3-D878E65E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896EC-C1CF-4A9E-9D86-F170B225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6714A-790F-4E36-8AD3-A86AEC13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2DF08-A72B-4E9F-A258-DD010AA4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54A2C-1DD9-4BFE-86B3-F51E15BF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411CC-0A0B-4746-BD54-104EC1B3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54DF-1DE7-458E-A97F-2D93C5D3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7C131-6EDF-45B9-9A53-CBBFA3B8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6E71E-6D19-4F2A-876A-BC407E9E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83736-9B45-4EE3-BA74-41CB310A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AD8EF-60A6-4F51-9EE5-A176B8AA8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A3A4A-472A-45D6-8194-00B607BF9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CDD3E-67E9-4FF8-92BB-97AE30A3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315A2-2AF3-4502-B7A7-3A66A7A3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7C666-1F4D-4BFD-8B43-B574C2E2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F6D45-D154-438A-A26C-18F90C12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24F76-76C4-4A88-A42D-F4D6BEFD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FBEE-4479-44CB-B787-113333FF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9FEFE-7C6B-4412-8D12-A742A543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A6DA1-AD93-4FE5-A67A-6566D402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701BC-AF54-4FDB-9214-943271EB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8CD0C-F402-4794-A1D2-69987E35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CDF24-E722-4E25-8D16-C1F1540F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AA081-087D-4462-89FE-62BA7269E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A889A-8EC3-4A3C-93AA-26B925772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43B7A3-7B94-42F6-8DC5-C7957AE63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9FA7F1-2CDD-4329-BD75-E0CBC3AF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189C04-08C6-4726-9479-F8EB3AA5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DB37-68BE-4EF4-A845-89140D0845A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ADF7-520D-4190-A2B8-1CDDE71AE2C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519F-DE7F-4086-B144-24C8CD5A9FE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86D8-E4FC-42B2-AF85-0A4B25ED9A3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97C6-D029-4BAC-9C82-2D665E6910E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3B1D-BC1C-4E06-BB4A-73A29B9C403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5412-920D-4909-965A-8A5F1FEAC4B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53A8-F716-4F58-AC33-192E978F507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ADAA-F83C-4333-BC77-C2D24B31016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7E5B-6DB9-45FA-856F-86C15957F70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718D-593D-416D-8E5E-56699E49E43C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502B-91B7-42E0-9F3E-240DE39ABC0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onsultant.ru/document/cons_doc_LAW_164535/" TargetMode="External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214360" y="1000080"/>
            <a:ext cx="642924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28760" y="285840"/>
            <a:ext cx="850104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5a00"/>
                </a:solidFill>
                <a:latin typeface="Georgia"/>
              </a:rPr>
              <a:t>Правила финансового обеспечения предупредительных мер по сокращению производственного травматизма и профессиональных заболеваний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08" name="Рисунок 5" descr="&amp;Rcy;&amp;ocy;&amp;scy;&amp;tcy;&amp;rcy;&amp;ucy;&amp;dcy; &amp;vcy;&amp;ocy;&amp;scy;&amp;scy;&amp;tcy;&amp;acy;&amp;ncy;&amp;ocy;&amp;vcy;&amp;icy;&amp;lcy; &amp;pcy;&amp;rcy;&amp;acy;&amp;vcy;&amp;acy; &amp;bcy;&amp;ocy;&amp;lcy;&amp;iecy;&amp;iecy; 1000 &amp;rcy;&amp;acy;&amp;bcy;&amp;ocy;&amp;tcy;&amp;ncy;&amp;icy;&amp;kcy;&amp;ocy;&amp;vcy; &amp;gcy;&amp;iecy;&amp;ocy;&amp;fcy;&amp;icy;&amp;zcy;&amp;icy;&amp;chcy;&amp;iecy;&amp;scy;&amp;kcy;&amp;ocy;&amp;gcy;&amp;ocy; &amp;pcy;&amp;rcy;&amp;iecy;&amp;dcy;&amp;pcy;&amp;rcy;&amp;icy;&amp;yacy;&amp;tcy;&amp;icy;&amp;yacy;"/>
          <p:cNvPicPr/>
          <p:nvPr/>
        </p:nvPicPr>
        <p:blipFill>
          <a:blip r:embed="rId1"/>
          <a:stretch/>
        </p:blipFill>
        <p:spPr>
          <a:xfrm>
            <a:off x="596880" y="2114640"/>
            <a:ext cx="7662960" cy="3163680"/>
          </a:xfrm>
          <a:prstGeom prst="rect">
            <a:avLst/>
          </a:prstGeom>
          <a:ln w="0">
            <a:noFill/>
          </a:ln>
        </p:spPr>
      </p:pic>
      <p:sp>
        <p:nvSpPr>
          <p:cNvPr id="609" name="Прямоугольник 6"/>
          <p:cNvSpPr/>
          <p:nvPr/>
        </p:nvSpPr>
        <p:spPr>
          <a:xfrm>
            <a:off x="4786200" y="5500800"/>
            <a:ext cx="3429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3e38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463e38"/>
                </a:solidFill>
                <a:latin typeface="Times New Roman"/>
                <a:ea typeface="Times New Roman"/>
              </a:rPr>
              <a:t>Презентацию подготовила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3e38"/>
                </a:solidFill>
                <a:latin typeface="Times New Roman"/>
                <a:ea typeface="Times New Roman"/>
              </a:rPr>
              <a:t>заместитель директора по АХЧ МБВ(С)ОУ В(С)ОШ № 185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3e38"/>
                </a:solidFill>
                <a:latin typeface="Times New Roman"/>
                <a:ea typeface="Times New Roman"/>
              </a:rPr>
              <a:t>Ожогова В.П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5a00"/>
                </a:solidFill>
                <a:latin typeface="Georgia"/>
              </a:rPr>
              <a:t>СИЗ</a:t>
            </a: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665a00"/>
                </a:solidFill>
                <a:latin typeface="Georgia"/>
              </a:rPr>
              <a:t>и смывающие средств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еречень приобретаемых СИЗ с указанием профессий (должностей) работников, норм выдачи СИЗ со ссылкой на соответствующий пункт типовых норм, а также количества и стоимости приобретаемых СИЗ;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еречень СИЗ, приобретаемых с учетом результатов проведения специальной оценки условий труда (если срок действия результатов аттестации рабочих мест по условиям труда, проведенной в соответствии с действовавшим до дня вступления в силу Федерального закона от 28 декабря 2013 г. N 426-ФЗ "О специальной оценке условий труда" (Собрание законодательства Российской Федерации, 2013, N 52, ст. 6991) порядком, не истек, то с учетом аттестации рабочих мест по условиям труда), с указанием профессий (должностей) работников, норм выдачи СИЗ, а также количества и стоимости приобретаемых СИЗ;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46324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5a00"/>
                </a:solidFill>
                <a:latin typeface="Georgia"/>
              </a:rPr>
              <a:t>Территориальный</a:t>
            </a:r>
            <a:r>
              <a:rPr b="0" lang="ru-RU" sz="24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665a00"/>
                </a:solidFill>
                <a:latin typeface="Georgia"/>
              </a:rPr>
              <a:t>орган Фонда принимает решение об отказе в финансовом обеспечении предупредительных мер в следующих случаях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если у страхователя имеются недоимка по уплате страховых взносов, пени и штрафы, не погашенные на день подачи страхователем заявления в территориальный орган Фонда по месту своей регистраци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редставленные документы содержат недостоверную информацию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если предусмотренные бюджетом Фонда средства на финансовое обеспечение предупредительных мер на текущий год полностью распределены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при представлении страхователем неполного комплекта документо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 в финансовом обеспечении предупредительных мер по другим основаниям не допускаетс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5a00"/>
                </a:solidFill>
                <a:latin typeface="Georgia"/>
              </a:rPr>
              <a:t>Ответственность учреждения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трахователь ведет в установленном порядке учет средств, направленных на финансовое обеспечение предупредительных мер в счет уплаты страховых взносов, и ежеквартально представляет в территориальный орган Фонда отчет об их использовани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сле завершения запланированных мероприятий страхователь представляет в территориальный орган Фонда документы, подтверждающие произведенные расходы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5a00"/>
                </a:solidFill>
                <a:latin typeface="Georgia"/>
              </a:rPr>
              <a:t>Спасибо за внимани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5a00"/>
                </a:solidFill>
                <a:latin typeface="Georgia"/>
              </a:rPr>
              <a:t>Нормативно-правовая база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МИНИСТЕРСТВО ТРУДА И СОЦИАЛЬНОЙ ЗАЩИТЫ РОССИЙСКОЙ ФЕДЕРАЦИИ</a:t>
            </a:r>
            <a:br>
              <a:rPr sz="2100"/>
            </a:b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РИКАЗ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от 10 декабря 2012 г. N 580н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(в ред.от 20.02.2014г.)</a:t>
            </a:r>
            <a:br>
              <a:rPr sz="2100"/>
            </a:b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ОБ УТВЕРЖДЕНИИ ПРАВИЛ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ФИНАНСОВОГО ОБЕСПЕЧЕНИЯ ПРЕДУПРЕДИТЕЛЬНЫХ МЕР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О СОКРАЩЕНИЮ ПРОИЗВОДСТВЕННОГО ТРАВМАТИЗМА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И ПРОФЕССИОНАЛЬНЫХ ЗАБОЛЕВАНИЙ РАБОТНИКОВ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И САНАТОРНО-КУРОРТНОГО ЛЕЧЕНИЯ РАБОТНИКОВ,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ЗАНЯТЫХ НА РАБОТАХ С ВРЕДНЫМИ И (ИЛИ) ОПАСНЫМИ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РОИЗВОДСТВЕННЫМИ ФАКТОРАМИ</a:t>
            </a:r>
            <a:br>
              <a:rPr sz="2100"/>
            </a:b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85480"/>
            <a:ext cx="8534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728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5a00"/>
                </a:solidFill>
                <a:latin typeface="Georgia"/>
              </a:rPr>
              <a:t>Финансирование мероприятий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6760"/>
            <a:ext cx="85042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оведение  СОУТ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бучение по охране труда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иобретение работникам СИЗ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анаторно-курортное лечение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оведение обязательных периодических медицинских осмотров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иобретение аптечек для оказания первой помощи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беспечение лечебно-профилактическим питанием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ликвидация вредных факторов на рабочем месте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и другие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728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5a00"/>
                </a:solidFill>
                <a:latin typeface="Georgia"/>
              </a:rPr>
              <a:t>Алгоритм действий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5" name="Содержимое 3" descr=""/>
          <p:cNvPicPr/>
          <p:nvPr/>
        </p:nvPicPr>
        <p:blipFill>
          <a:blip r:embed="rId1"/>
          <a:stretch/>
        </p:blipFill>
        <p:spPr>
          <a:xfrm>
            <a:off x="334800" y="1352520"/>
            <a:ext cx="838224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5a00"/>
                </a:solidFill>
                <a:latin typeface="Georgia"/>
              </a:rPr>
              <a:t>образец заявления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28760" y="150012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на фирменном бланке учреждения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Georgia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23543"/>
                </a:solidFill>
                <a:uFillTx/>
                <a:latin typeface="Times New Roman"/>
                <a:ea typeface="Times New Roman"/>
              </a:rPr>
              <a:t>г. Екатеринбург, Чапаева, 23б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Директору филиала № 17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ГУ - Свердловского регионального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отделения ФСС РФ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Иванченко Ю.В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23543"/>
                </a:solidFill>
                <a:uFillTx/>
                <a:latin typeface="Times New Roman"/>
                <a:ea typeface="Times New Roman"/>
              </a:rPr>
              <a:t>ЗАЯВЛЕНИЕ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23543"/>
                </a:solidFill>
                <a:uFillTx/>
                <a:latin typeface="Times New Roman"/>
                <a:ea typeface="Times New Roman"/>
              </a:rPr>
              <a:t>Сведения о страхователе: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Муниципальное  бюджетное вечернее (сменное) общеобразовательное учреждение вечерняя (сменная) общеобразовательная школа № 185 (МБВ(С)ОУ В(С)ОШ  № 185)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23543"/>
                </a:solidFill>
                <a:uFillTx/>
                <a:latin typeface="Times New Roman"/>
                <a:ea typeface="Times New Roman"/>
              </a:rPr>
              <a:t>Регистрационный номер страхователя:  6611501539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Прошу рассчитать сумму финансового обеспечения предупредительных мер по сокращению производственного травматизма и профессиональных заболеваний в 2015 году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Директор МБВ(С)ОУ В(С)ОШ № 185                                В.М.Виноградова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«28» февраля 2015 года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Georgia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Georgia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Georgia"/>
              </a:rPr>
              <a:t>Исп. 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Georgia"/>
              </a:rPr>
              <a:t>Уполномоченный по социальному страхованию Ожогова В.П.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Georgia"/>
              </a:rPr>
              <a:t>тел. 8-908-925-78-16, 245-42-00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864396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665a00"/>
                </a:solidFill>
                <a:latin typeface="Georgia"/>
              </a:rPr>
              <a:t>Для получения финансового обеспечения предупредительных мер страхователи должны представить в исполнительный орган Фонда пакет документов:</a:t>
            </a:r>
            <a:br>
              <a:rPr sz="1800"/>
            </a:b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6840" y="1935000"/>
            <a:ext cx="82580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3543"/>
                </a:solidFill>
                <a:latin typeface="Georgia"/>
              </a:rPr>
              <a:t>заявление о финансовом обеспечении предупредительных мер по установленной форме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3543"/>
                </a:solidFill>
                <a:latin typeface="Georgia"/>
              </a:rPr>
              <a:t>план финансового обеспечения предупредительных мер по установленной форме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3543"/>
                </a:solidFill>
                <a:latin typeface="Georgia"/>
              </a:rPr>
              <a:t>копия (выписка из) коллективного договора (соглашения по охране труда между работодателем и представительным органом работников) и (или) копия плана мероприятий по улучшению и оздоровлению условий труда в организации, разработанного по результатам аттестации рабочих мест по условиям труда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3543"/>
                </a:solidFill>
                <a:latin typeface="Georgia"/>
              </a:rPr>
              <a:t>документы, обосновывающие финансовую необходимость выбранных предупредительных мер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680" y="356760"/>
            <a:ext cx="84852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5a00"/>
                </a:solidFill>
                <a:latin typeface="Georgia"/>
              </a:rPr>
              <a:t>Проведение специальной оценки условий труд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ю локального нормативного акта о создании комиссии по проведению специальной оценки условий труда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ю гражданско-правового договора с организацией, проводящей специальную оценку условий труда, с указанием количества рабочих мест, в отношении которых проводится специальная оценка условий труда, и стоимости проведения специальной оценки условий труда на указанном количестве рабочих мест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8429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r>
              <a:rPr b="1" lang="ru-RU" sz="1600" spc="-1" strike="noStrike">
                <a:solidFill>
                  <a:srgbClr val="665a00"/>
                </a:solidFill>
                <a:latin typeface="Georgia"/>
              </a:rPr>
              <a:t>реализация</a:t>
            </a:r>
            <a:r>
              <a:rPr b="0" lang="ru-RU" sz="16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665a00"/>
                </a:solidFill>
                <a:latin typeface="Georgia"/>
              </a:rPr>
              <a:t>мероприятий по приведению уровней воздействия вредных и (или) опасных производственных факторов на рабочих местах в соответствие с государственными нормативными требованиями охраны труда</a:t>
            </a:r>
            <a:br>
              <a:rPr sz="1600"/>
            </a:br>
            <a:br>
              <a:rPr sz="1000"/>
            </a:br>
            <a:br>
              <a:rPr sz="1000"/>
            </a:br>
            <a:endParaRPr b="0" lang="en-US" sz="1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43236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копию отчета о проведении специальной оценки условий труда, подтверждающего превышение предельно допустимых уровней воздействия вредных и (или) опасных производственных факторов на соответствующих рабочих местах (если срок действия результатов аттестации рабочих мест по условиям труда, проведенной в соответствии с действовавшим до дня вступления в силу Федерального </a:t>
            </a:r>
            <a:r>
              <a:rPr b="0" lang="ru-RU" sz="15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закона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от 28 декабря 2013 г. N 426-ФЗ "О специальной оценке условий труда" (Собрание законодательства Российской Федерации, 2013, N 52, ст. 6991) порядком, не истек, то представляются копии отчета о проведении аттестации рабочих мест по условиям труда)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43236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копию отчета о проведении специальной оценки условий труда на соответствующих рабочих местах после реализации соответствующих мероприятий и свидетельствующего о снижении класса (подкласса) условий труда на соответствующих рабочих местах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43236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копии документов, подтверждающих приобретение организацией соответствующего оборудования и проведение работ по приведению уровней воздействия вредных и (или) опасных производственных факторов на рабочих местах в соответствие с государственными нормативными требованиями охраны труда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43236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в случае включения в план финансового обеспечения предупредительных мер мероприятий, не требующих приобретения оборудования, - копию договора на проведение соответствующих работ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143000" y="285480"/>
            <a:ext cx="74296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3543"/>
                </a:solidFill>
                <a:latin typeface="Georgia"/>
              </a:rPr>
              <a:t> 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4900" spc="-1" strike="noStrike">
                <a:solidFill>
                  <a:srgbClr val="323543"/>
                </a:solidFill>
                <a:latin typeface="Georgia"/>
              </a:rPr>
              <a:t> </a:t>
            </a:r>
            <a:br>
              <a:rPr sz="3000"/>
            </a:br>
            <a:r>
              <a:rPr b="0" lang="ru-RU" sz="30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665a00"/>
                </a:solidFill>
                <a:latin typeface="Georgia"/>
              </a:rPr>
              <a:t>Обучение по охране труд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11618"/>
                </a:solidFill>
                <a:latin typeface="Georgia"/>
              </a:rPr>
              <a:t>договор на обучение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11618"/>
                </a:solidFill>
                <a:latin typeface="Georgia"/>
              </a:rPr>
              <a:t>счёт на оплату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11618"/>
                </a:solidFill>
                <a:latin typeface="Georgia"/>
              </a:rPr>
              <a:t>программы обучения по охране труда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11618"/>
                </a:solidFill>
                <a:latin typeface="Georgia"/>
              </a:rPr>
              <a:t>уведомление о внесении в реестр Минсоцздравразвития аккредитованных организаций, оказывающих услуги в области охраны труда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11618"/>
                </a:solidFill>
                <a:latin typeface="Georgia"/>
              </a:rPr>
              <a:t>приказ о направлении работников на обучение по охране труда с отрывом от производства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11618"/>
                </a:solidFill>
                <a:latin typeface="Georgia"/>
              </a:rPr>
              <a:t>список работников, направляемых на обучение по охране труда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11618"/>
                </a:solidFill>
                <a:latin typeface="Georgia"/>
              </a:rPr>
              <a:t>приказ о назначении ответственного лица по охране труда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4-21T04:55:46Z</dcterms:modified>
  <cp:revision>99</cp:revision>
  <dc:subject/>
  <dc:title>проведение аттестации рабочих мест по условиям труда;</dc:title>
</cp:coreProperties>
</file>