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982C7-8D2C-4B1B-AD3A-7093E9C7E0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D22D0-8C54-4694-B047-6832049DDB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41EB-4B7E-43C9-95BD-33EE19A4B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F434-A94E-4FDF-84FA-BB33506FF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8435-9CE3-4223-B254-156DE0DBF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0F19-96BD-4158-A5F8-110E56509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1CCB6-E243-4B8B-AD58-39A6E3FBA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EEC0E-755A-48B8-B6DB-EC60F8DEB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8C4F6-F1A6-45D1-98D2-036F3B7BC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3A421-DC64-400E-98AE-3D5BCA53B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45325-D728-4B33-BB53-A0E786246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9790D-D38E-4EA3-8F18-B829D54E5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24971-956F-4A1B-968B-0F4F4705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0865-F614-46D5-9421-E778841F3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0AF21-9624-4484-9D0F-1AE0E6D0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CD523-2F68-4F8F-A422-4414AC8F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A54A2-83C0-4B3E-AFC6-DC7ED8B30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AC37D-2710-4EB4-AA65-8EFE79E6D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F55C5-2971-4701-9BC7-FE203DE45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EC23-DA4C-4C90-A583-ED55DB9D1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9DCC-E4C3-42D7-85C9-4C8FA845E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52BE-8774-4C52-8D0F-5782E8E8B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3CE9-495A-4698-BDB3-48E1BB373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EFE5-86DF-42C9-B62D-7C4C48F7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A0D8-4A66-4E02-BBCB-90BDF6C4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8BB5-C4A0-4830-B9F0-5DCB9D83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CD476-3C69-4CAB-A4A6-4EA59EF86E7A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4B348-213B-4BAE-83C5-C00131B6B460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Par1476" TargetMode="External"/><Relationship Id="rId2" Type="http://schemas.openxmlformats.org/officeDocument/2006/relationships/hyperlink" Target="consultantplus://offline/ref=3A596D0D948F2E303421EE5800A2404C4B463D316379106ABD05602B99830309A1DEDE5FC1DFCF3DN8VAK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6"/>
          <p:cNvSpPr/>
          <p:nvPr/>
        </p:nvSpPr>
        <p:spPr>
          <a:xfrm>
            <a:off x="228600" y="2209680"/>
            <a:ext cx="853452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Tahoma"/>
              </a:rPr>
              <a:t>Порядок возмещения средств из фонда социального страхования на финансовое обеспечение предупредительных мер 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Picture 5" descr="C:\Documents and Settings\Loner\Рабочий стол\аттестация\1926930.jpg"/>
          <p:cNvPicPr/>
          <p:nvPr/>
        </p:nvPicPr>
        <p:blipFill>
          <a:blip r:embed="rId1"/>
          <a:stretch/>
        </p:blipFill>
        <p:spPr>
          <a:xfrm>
            <a:off x="6553080" y="228600"/>
            <a:ext cx="24386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1"/>
          <p:cNvSpPr/>
          <p:nvPr/>
        </p:nvSpPr>
        <p:spPr>
          <a:xfrm>
            <a:off x="1066680" y="457200"/>
            <a:ext cx="73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Федеральный закон от 1 декабря 2014 г. N 386-ФЗ "О бюджете Фонда социального страхования Российской Федерации на 2015 год и на плановый период  2016 и 2017 годо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Прямоугольник 2"/>
          <p:cNvSpPr/>
          <p:nvPr/>
        </p:nvSpPr>
        <p:spPr>
          <a:xfrm>
            <a:off x="838080" y="4114800"/>
            <a:ext cx="7467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озможность использования в качестве дополнительного источника финансирования мероприятий по охране труда  части сумм страховых взносов на обязательное социальное страхование от несчастных случаев на производстве и профессиональных заболеваний, (до 20%) на предупредительные меры по сокращению производственного травматизм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Picture 5" descr="C:\Documents and Settings\Loner\Рабочий стол\аттестация\1926930.jpg"/>
          <p:cNvPicPr/>
          <p:nvPr/>
        </p:nvPicPr>
        <p:blipFill>
          <a:blip r:embed="rId1"/>
          <a:stretch/>
        </p:blipFill>
        <p:spPr>
          <a:xfrm>
            <a:off x="2362320" y="1447920"/>
            <a:ext cx="38098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3"/>
          <p:cNvSpPr/>
          <p:nvPr/>
        </p:nvSpPr>
        <p:spPr>
          <a:xfrm>
            <a:off x="1066680" y="2590920"/>
            <a:ext cx="7239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озврат денежных средств за вычетом расходов, произведенных в предшествующем календарном году на выплату пособий по временной нетрудоспособности в связи с несчастными случаями на производстве или профессиональными заболеваниям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Picture 5" descr="C:\Documents and Settings\Loner\Рабочий стол\аттестация\1926930.jpg"/>
          <p:cNvPicPr/>
          <p:nvPr/>
        </p:nvPicPr>
        <p:blipFill>
          <a:blip r:embed="rId1"/>
          <a:stretch/>
        </p:blipFill>
        <p:spPr>
          <a:xfrm>
            <a:off x="2438280" y="152280"/>
            <a:ext cx="3048120" cy="22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1"/>
          <p:cNvSpPr/>
          <p:nvPr/>
        </p:nvSpPr>
        <p:spPr>
          <a:xfrm>
            <a:off x="685800" y="380880"/>
            <a:ext cx="8305920" cy="64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риказ Министерства труда и социальной защиты  РФ  от 10 декабря 2012 г. N 580н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«Об утверждении правил финансового обеспечения предупредительных мер по сокращению производственного травматизма  и профессиональных заболеваний работников и санаторно-курортного лечения работников, занятых на работах с вредными и (или) опасными производственными факторами»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ahoma"/>
              </a:rPr>
              <a:t>Финансовому обеспечению за счет сумм страховых взносов подлежат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ahoma"/>
              </a:rPr>
              <a:t>расходы страхователя на следующие мероприятия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а) проведение специальной оценки условий труда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б) реализация мероприятий по приведению уровней воздействия вредных и (или) опасных производственных факторов на рабочих местах в соответствие с государственными нормативными требованиями охраны труда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) обучение по охране труда следующих категорий работников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руководителей и специалистов служб охраны труда организаций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членов комитетов (комиссий) по охране труда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уполномоченных (доверенных) лиц по охране труда профессиональных союзов и иных уполномоченных работниками представительных органов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г) приобретение работникам, специальной одежды, специальной обуви и других средств индивидуальной защиты (далее - СИЗ) в соответствии с типовыми нормами бесплатной выдачи СИЗ (далее - типовые нормы) и (или) на основании результатов проведения специальной оценки условий труда, а также смывающих и (или) обезвреживающих средств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1"/>
          <p:cNvSpPr/>
          <p:nvPr/>
        </p:nvSpPr>
        <p:spPr>
          <a:xfrm>
            <a:off x="990720" y="228600"/>
            <a:ext cx="8153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д) санаторно-курортное лечение работников, занятых на работах с вредными и (или) опасными производственными факторами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е) проведение обязательных периодических медицинских осмотров (обследований) работников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ж) обеспечение лечебно-профилактическим питанием (далее - ЛПП) работников, для которых указанное питание предусмотрено Перечнем производств, профессий и должностей, работа в которых дает право на бесплатное получение лечебно-профилактического питания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з) приобретение страхователями, работники которых проходят обязательные предсменные и (или) предрейсовые медицинские осмотры, приборов для определения наличия и уровня содержания алкоголя (алкотестеры или алкометры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и) приобретение страхователями, осуществляющими пассажирские и грузовые перевозки, приборов контроля за режимом труда и отдыха водителей (тахографов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к) приобретение страхователями аптечек для оказания первой помощ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1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810288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"/>
          <p:cNvSpPr/>
          <p:nvPr/>
        </p:nvSpPr>
        <p:spPr>
          <a:xfrm>
            <a:off x="685800" y="232200"/>
            <a:ext cx="8001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предоставления государственной услуги заявитель подает в территориальный орган Фонда на бумажном носителе или в форме электронного документа заявление о финансовом обеспечении предупредительных мер (далее - заявление), форма которого предусмотрена 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  <a:hlinkClick r:id="rId1"/>
              </a:rPr>
              <a:t>приложением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к Административному регламенту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838080" y="1984320"/>
            <a:ext cx="7086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Исчерпывающий перечень документов, необходимых в соответствии нормативными правовыми актами для предоставления государственной услуги, подлежащих представлению заявителем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152280" y="2931840"/>
            <a:ext cx="899172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К заявлению прилагаются документы, необходимые для предоставления государственной услуг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1) план финансового обеспечения предупредительных мер в текущем календарном году, форма которого предусмотрена 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  <a:hlinkClick r:id="rId2"/>
              </a:rPr>
              <a:t>приложением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к Правилам (далее - план финансового обеспечения предупредительных мер), подготовленный с учетом перечня мероприятий по улучшению условий и охраны труда работников, разработанного по результатам проведения специальной оценки условий труда, и (или) коллективного договора (соглашения по охране труда между работодателем и представительным органом работников), с указанием суммы финансирования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2) копия перечня мероприятий по улучшению условий и охраны труда работников, разработанного по результатам проведения специальной оценки условий труда, и (или) копия (выписка из) коллективного договора (соглашения по охране труда между работодателем и представительным органом работников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3) для обоснования финансового обеспечения предупредительных мер заявитель представляет документы (копии документов), обосновывающие необходимость финансового обеспечения каждого из мероприятий, включенных в план финансового обеспечения предупредительных мер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"/>
          <p:cNvSpPr/>
          <p:nvPr/>
        </p:nvSpPr>
        <p:spPr>
          <a:xfrm>
            <a:off x="0" y="308520"/>
            <a:ext cx="914400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  <a:ea typeface="Calibri"/>
              </a:rPr>
              <a:t>БЛОК-СХЕМА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  <a:ea typeface="Calibri"/>
              </a:rPr>
              <a:t>ПОСЛЕДОВАТЕЛЬНОСТИ ДЕЙСТВИЙ ПРЕДОСТАВЛЕНИЯ  ГОСУДАРСТВЕННОЙ УСЛУГИ ПО ПРИНЯТИЮ РЕШЕНИЯ О ФИНАНСОВОМ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  <a:ea typeface="Calibri"/>
              </a:rPr>
              <a:t>ОБЕСПЕЧЕНИИ ПРЕДУПРЕДИТЕЛЬНЫХ МЕР ПО СОКРАЩЕНИЮ ПРОИЗВОДСТВЕННОГО ТРАВМАТИЗМА И ПРОФЕССИОНАЛЬНЫХ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  <a:ea typeface="Calibri"/>
              </a:rPr>
              <a:t>ЗАБОЛЕВАНИЙ РАБОТНИКОВ И САНАТОРНО-КУРОРТНОГО ЛЕЧЕНИЯ РАБОТНИКОВ, ЗАНЯТЫХ НА РАБОТАХ С ВРЕДНЫМИ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  <a:ea typeface="Calibri"/>
              </a:rPr>
              <a:t>И (ИЛИ) ОПАСНЫМИ ПРОИЗВОДСТВЕННЫМИ ФАКТОРАМИ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Прямоугольник 2"/>
          <p:cNvSpPr/>
          <p:nvPr/>
        </p:nvSpPr>
        <p:spPr>
          <a:xfrm>
            <a:off x="2895480" y="1905120"/>
            <a:ext cx="3124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АЯВИТЕЛ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Прямоугольник 3"/>
          <p:cNvSpPr/>
          <p:nvPr/>
        </p:nvSpPr>
        <p:spPr>
          <a:xfrm>
            <a:off x="2514600" y="3505320"/>
            <a:ext cx="38862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ерриториальный орган фонда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Прямоугольник 4"/>
          <p:cNvSpPr/>
          <p:nvPr/>
        </p:nvSpPr>
        <p:spPr>
          <a:xfrm>
            <a:off x="1600200" y="2590920"/>
            <a:ext cx="57150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Заявление (лично, почтой, в электронном виде) с комплектом документов (лично, почтой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23" name="Прямая со стрелкой 6"/>
          <p:cNvCxnSpPr>
            <a:stCxn id="120" idx="2"/>
            <a:endCxn id="122" idx="0"/>
          </p:cNvCxnSpPr>
          <p:nvPr/>
        </p:nvCxnSpPr>
        <p:spPr>
          <a:xfrm flipH="1">
            <a:off x="4455360" y="2211480"/>
            <a:ext cx="3960" cy="38160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24" name="Прямая со стрелкой 12"/>
          <p:cNvCxnSpPr>
            <a:stCxn id="122" idx="2"/>
            <a:endCxn id="121" idx="0"/>
          </p:cNvCxnSpPr>
          <p:nvPr/>
        </p:nvCxnSpPr>
        <p:spPr>
          <a:xfrm flipH="1">
            <a:off x="4455360" y="3125880"/>
            <a:ext cx="3960" cy="38160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125" name="Прямоугольник 18"/>
          <p:cNvSpPr/>
          <p:nvPr/>
        </p:nvSpPr>
        <p:spPr>
          <a:xfrm>
            <a:off x="762120" y="4191120"/>
            <a:ext cx="22860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Наличие оснований, по которым заявление и комплект документов не может быть принято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Прямоугольник 19"/>
          <p:cNvSpPr/>
          <p:nvPr/>
        </p:nvSpPr>
        <p:spPr>
          <a:xfrm>
            <a:off x="838080" y="5486400"/>
            <a:ext cx="221004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Заявление и комплект документов  с обоснованием причин возврата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27" name="Соединительная линия уступом 42"/>
          <p:cNvCxnSpPr>
            <a:stCxn id="126" idx="1"/>
            <a:endCxn id="120" idx="1"/>
          </p:cNvCxnSpPr>
          <p:nvPr/>
        </p:nvCxnSpPr>
        <p:spPr>
          <a:xfrm flipH="1" rot="10800000">
            <a:off x="836640" y="2056680"/>
            <a:ext cx="2057760" cy="3886920"/>
          </a:xfrm>
          <a:prstGeom prst="bentConnector3">
            <a:avLst>
              <a:gd name="adj1" fmla="val -11111"/>
            </a:avLst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28" name="Прямая со стрелкой 44"/>
          <p:cNvCxnSpPr>
            <a:endCxn id="125" idx="0"/>
          </p:cNvCxnSpPr>
          <p:nvPr/>
        </p:nvCxnSpPr>
        <p:spPr>
          <a:xfrm flipH="1">
            <a:off x="1904400" y="3885120"/>
            <a:ext cx="991080" cy="30564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29" name="Прямая со стрелкой 48"/>
          <p:cNvCxnSpPr>
            <a:stCxn id="125" idx="2"/>
            <a:endCxn id="126" idx="0"/>
          </p:cNvCxnSpPr>
          <p:nvPr/>
        </p:nvCxnSpPr>
        <p:spPr>
          <a:xfrm>
            <a:off x="1905120" y="5105520"/>
            <a:ext cx="38880" cy="38160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130" name="Прямоугольник 58"/>
          <p:cNvSpPr/>
          <p:nvPr/>
        </p:nvSpPr>
        <p:spPr>
          <a:xfrm>
            <a:off x="4876920" y="4191120"/>
            <a:ext cx="266688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Регистрация принятого заявления с комплектом документов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Прямоугольник 59"/>
          <p:cNvSpPr/>
          <p:nvPr/>
        </p:nvSpPr>
        <p:spPr>
          <a:xfrm>
            <a:off x="4191120" y="5410080"/>
            <a:ext cx="41148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Истребование  документов (сведений) в рамках межведомственного взаимодействия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32" name="Прямая со стрелкой 15"/>
          <p:cNvCxnSpPr>
            <a:endCxn id="130" idx="0"/>
          </p:cNvCxnSpPr>
          <p:nvPr/>
        </p:nvCxnSpPr>
        <p:spPr>
          <a:xfrm>
            <a:off x="5257800" y="3885840"/>
            <a:ext cx="953280" cy="30564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33" name="Прямая со стрелкой 20"/>
          <p:cNvCxnSpPr>
            <a:stCxn id="130" idx="2"/>
            <a:endCxn id="131" idx="0"/>
          </p:cNvCxnSpPr>
          <p:nvPr/>
        </p:nvCxnSpPr>
        <p:spPr>
          <a:xfrm>
            <a:off x="6210360" y="5105520"/>
            <a:ext cx="38880" cy="3052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34" name="Прямая со стрелкой 30"/>
          <p:cNvCxnSpPr>
            <a:stCxn id="131" idx="2"/>
          </p:cNvCxnSpPr>
          <p:nvPr/>
        </p:nvCxnSpPr>
        <p:spPr>
          <a:xfrm flipH="1">
            <a:off x="6246000" y="6326280"/>
            <a:ext cx="3960" cy="38160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1"/>
          <p:cNvSpPr/>
          <p:nvPr/>
        </p:nvSpPr>
        <p:spPr>
          <a:xfrm>
            <a:off x="2438280" y="762120"/>
            <a:ext cx="41148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Истребование  документов (сведений) в рамках межведомственного взаимодействия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Прямоугольник 2"/>
          <p:cNvSpPr/>
          <p:nvPr/>
        </p:nvSpPr>
        <p:spPr>
          <a:xfrm>
            <a:off x="1523880" y="2286000"/>
            <a:ext cx="243864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Заявители, у которых сумма страховых взносов составляет до 8 млн. руб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Прямоугольник 4"/>
          <p:cNvSpPr/>
          <p:nvPr/>
        </p:nvSpPr>
        <p:spPr>
          <a:xfrm>
            <a:off x="5181480" y="2286000"/>
            <a:ext cx="243864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Заявители, у которых сумма страховых взносов составляет более 8 млн. руб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Прямоугольник 5"/>
          <p:cNvSpPr/>
          <p:nvPr/>
        </p:nvSpPr>
        <p:spPr>
          <a:xfrm>
            <a:off x="457200" y="3809880"/>
            <a:ext cx="2209680" cy="99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ринятие решения об отказе предоставления  услуги в течение  10 рабочих дн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Прямоугольник 6"/>
          <p:cNvSpPr/>
          <p:nvPr/>
        </p:nvSpPr>
        <p:spPr>
          <a:xfrm>
            <a:off x="3048120" y="3809880"/>
            <a:ext cx="2209680" cy="99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ринятие решения о  предоставлении  услуги в течение  10 рабочих дн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Прямоугольник 7"/>
          <p:cNvSpPr/>
          <p:nvPr/>
        </p:nvSpPr>
        <p:spPr>
          <a:xfrm>
            <a:off x="6934320" y="3886200"/>
            <a:ext cx="914400" cy="914400"/>
          </a:xfrm>
          <a:prstGeom prst="rect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41" name="Прямая со стрелкой 9"/>
          <p:cNvCxnSpPr>
            <a:endCxn id="136" idx="0"/>
          </p:cNvCxnSpPr>
          <p:nvPr/>
        </p:nvCxnSpPr>
        <p:spPr>
          <a:xfrm flipH="1">
            <a:off x="2742840" y="1675440"/>
            <a:ext cx="991440" cy="61020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42" name="Прямая со стрелкой 12"/>
          <p:cNvCxnSpPr>
            <a:endCxn id="137" idx="0"/>
          </p:cNvCxnSpPr>
          <p:nvPr/>
        </p:nvCxnSpPr>
        <p:spPr>
          <a:xfrm>
            <a:off x="5333760" y="1676160"/>
            <a:ext cx="1067400" cy="61020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43" name="Прямая со стрелкой 15"/>
          <p:cNvCxnSpPr>
            <a:stCxn id="136" idx="2"/>
            <a:endCxn id="139" idx="0"/>
          </p:cNvCxnSpPr>
          <p:nvPr/>
        </p:nvCxnSpPr>
        <p:spPr>
          <a:xfrm>
            <a:off x="2743200" y="3200040"/>
            <a:ext cx="1410480" cy="61020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44" name="Прямая со стрелкой 18"/>
          <p:cNvCxnSpPr>
            <a:stCxn id="136" idx="2"/>
            <a:endCxn id="138" idx="0"/>
          </p:cNvCxnSpPr>
          <p:nvPr/>
        </p:nvCxnSpPr>
        <p:spPr>
          <a:xfrm flipH="1">
            <a:off x="1561320" y="3200040"/>
            <a:ext cx="1181880" cy="61020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45" name="Прямая со стрелкой 21"/>
          <p:cNvCxnSpPr>
            <a:stCxn id="137" idx="2"/>
            <a:endCxn id="140" idx="0"/>
          </p:cNvCxnSpPr>
          <p:nvPr/>
        </p:nvCxnSpPr>
        <p:spPr>
          <a:xfrm>
            <a:off x="6400800" y="3200040"/>
            <a:ext cx="991440" cy="68652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146" name="Прямоугольник 23"/>
          <p:cNvSpPr/>
          <p:nvPr/>
        </p:nvSpPr>
        <p:spPr>
          <a:xfrm>
            <a:off x="1219320" y="6172200"/>
            <a:ext cx="3124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АЯВИТЕЛ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Прямоугольник 24"/>
          <p:cNvSpPr/>
          <p:nvPr/>
        </p:nvSpPr>
        <p:spPr>
          <a:xfrm>
            <a:off x="609480" y="5257800"/>
            <a:ext cx="457200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твет заявителю в форме приказа (лично, почтой, в электронном виде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48" name="Прямая со стрелкой 26"/>
          <p:cNvCxnSpPr>
            <a:stCxn id="138" idx="2"/>
            <a:endCxn id="147" idx="0"/>
          </p:cNvCxnSpPr>
          <p:nvPr/>
        </p:nvCxnSpPr>
        <p:spPr>
          <a:xfrm>
            <a:off x="1562040" y="4800600"/>
            <a:ext cx="1334160" cy="45792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49" name="Прямая со стрелкой 29"/>
          <p:cNvCxnSpPr>
            <a:stCxn id="139" idx="2"/>
            <a:endCxn id="147" idx="0"/>
          </p:cNvCxnSpPr>
          <p:nvPr/>
        </p:nvCxnSpPr>
        <p:spPr>
          <a:xfrm flipH="1">
            <a:off x="2894760" y="4800600"/>
            <a:ext cx="1258200" cy="45792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50" name="Прямая со стрелкой 32"/>
          <p:cNvCxnSpPr/>
          <p:nvPr/>
        </p:nvCxnSpPr>
        <p:spPr>
          <a:xfrm flipH="1">
            <a:off x="2819160" y="5866920"/>
            <a:ext cx="2160" cy="30564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51" name="Прямая со стрелкой 35"/>
          <p:cNvCxnSpPr>
            <a:endCxn id="135" idx="0"/>
          </p:cNvCxnSpPr>
          <p:nvPr/>
        </p:nvCxnSpPr>
        <p:spPr>
          <a:xfrm flipH="1">
            <a:off x="4493520" y="306360"/>
            <a:ext cx="3960" cy="45792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r</dc:creator>
  <dc:description/>
  <dc:language>en-US</dc:language>
  <cp:lastModifiedBy>Андрей</cp:lastModifiedBy>
  <dcterms:modified xsi:type="dcterms:W3CDTF">2007-12-31T19:21:22Z</dcterms:modified>
  <cp:revision>18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