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C1F-A6D2-4FED-88C0-941E0D5A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2C1F-B72B-401A-A75A-FEC9F19D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DF486-E7BD-468C-9D1C-013A6607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6F490-CD0B-4D8D-8F7E-4E43B84C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BE347-6793-4377-9640-2579FEEF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89FE1-EE99-4F62-BCEF-1753E952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E1649-231F-49E0-BC17-BAB10715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163DF-7AEF-4EB8-B7F1-03BBBC7F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D6AE5-63E2-48B3-8403-C37D336D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BEF07-41CC-4161-8D32-E3F2BCC6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C98AE-E1E8-4687-881E-9B0D93FD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C5AE9-C0A7-44D5-88E5-6E46ECAA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A9C-11F7-4088-8C85-173B69B4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2FADD-C5D2-4A57-938C-F81F7A50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6B63C2-900A-4D68-916A-E4CCC251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8ADAF-91DE-4960-BAFD-6CFDC554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C36D4-A2D4-4119-8A9F-F45C749F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39B05-4357-45BD-8ED3-0CA1CC3A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B7E492-C3E8-4EEB-8304-B43AE5EB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B9981-9C1E-4C29-9797-5DF89A1E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18130-883D-46DA-8D07-0E18786A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CFC49-ABDD-4395-9C82-1F0DC81F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DB3F0-A227-4BB9-8B65-D04A602F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B5E-B135-4830-A187-13113B2E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8CE72-A994-40C8-8EC6-DCF56239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85C07-B32E-4B29-81F6-7A065EFA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FFF36-02BB-414C-943B-4BACFD78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ADA7A-D737-4093-B58B-335A1188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16D77-159E-40A1-9048-A3395403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9961B-154E-4123-AD4A-3D7CB19D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2F31C-4266-4696-83E6-2B2E902C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62930-43BE-446E-BE8E-9CDC90BA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2D91A-D34E-4522-A91B-1183E9DE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41A17-6D9D-4F67-8386-E052180B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A615-45B6-41BF-8115-5BE18E56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E5300-9F26-4E2E-AEAA-44A77355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360BF-5B0D-4760-ADB8-010C6AAF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A28B2-88E7-4111-8C47-D6BCE1C1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135A8F-8A0D-4533-98D0-CFB8DD2E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80E59-31BE-4067-95A0-1C8E7821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3B245-1A95-4BD2-9EA5-3BD0C110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BBA06-3EBE-432E-8321-2D0CE393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C6674-C322-4954-8271-AEF311E3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C07CE-9813-4D24-933D-717E11AA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0BBD16-B91E-4A7B-B775-97AA3919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5530-1FE3-426B-82DD-25298D4C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16EC0-7C5E-4113-B5F4-7C878A54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76150-B910-4CC1-BE47-AF2B5CCA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A4205-0B07-422E-A0AD-56F24DAD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5656B-8811-4CC8-82D8-77828A00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7793C-2447-47EB-ADB9-1AB3156B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F5D4-208D-401F-AE16-810255B1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37D6-6E55-4505-B8F4-11603188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0859-63E5-4CD5-943E-24FCA90C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BA55-7CB5-4577-88B3-AB306BD8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FC28-76EA-4152-B73E-CECF79FC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BD0-50EF-40B4-BAC5-EE5ECFD0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2B8C-DC88-45B7-8323-02D05575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8E43-1FF3-44D4-A8C4-FB238BFB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F507-BCDF-4C59-A466-FFA17DEF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F6CB-F690-4037-A9DB-598C8189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7098-B75F-42A5-B2BE-B1EDFE44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67F2-31DE-4E71-BC72-64905F2E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E24DA-BA44-434E-A7C6-9908A1B7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6E271-723E-42C5-A279-8B9BCCCA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6C2AA-2023-43FE-B681-943D4AF5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DEAC5-A3A6-4C82-A197-C200FD9D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711-0C65-4DF6-8A18-C5720F8E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5BD6E-0861-4F1D-9F7E-2436ACE8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56C9-6684-4817-8BC9-D2F4A2AA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3876C-F95E-461A-80B2-EFB6FDE2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E743-EF6E-46E3-A460-7EE8BC87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1C66C-2E3F-4E7D-9569-5FCAE1AA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9B91C-2C54-403A-902A-92A61488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60ED-E0B4-4745-A8D5-73FC8259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2FAB4-FDD5-47B9-8C1E-28700525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30316-2EC4-46F7-89AA-D086416C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CECB2-259F-43EE-9768-35F6A7C7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BFA-48CB-429C-8DB8-506B5792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D36D9-A91C-43C7-8028-AD5151CE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16509-2AF8-4E8C-AC05-C34FFAB0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71FF7-79E1-4D06-8F00-7F2FB6B3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D2586-98E2-4F71-A715-1742C83F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58720-5AD2-4384-86B6-1F1AE4CE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5D6C6-7E13-4D77-96CB-CC80E131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700B1-DB31-4D5F-983A-7940E321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D34F6-A3FF-49F4-B71B-60D20F4D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26296-1C7D-4B42-9129-E863B410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81A6B-B9D2-4B8F-997C-FED81564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EE8-08B2-4BA1-B5D6-15D80DC9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0B4DC-A034-40FA-9B33-4E0BD88B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4247F-581F-4206-AC20-5C6B9F1B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16C88-CA9B-42F7-B404-8E7CA419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A83AA-774C-44F7-845A-ADE897E1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86D7C-9E29-4E3D-B7B3-244D4A6A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FAC11-118E-4CCB-8CC2-CF543986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8CD37-ED4E-4D8F-B1A6-FEE969E1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1E005-580A-4458-859D-60890577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C75FC-ACD0-4A54-B5E7-500FDE40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39F9F-4E88-424E-99AF-6149E5B0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299-D060-4F68-8DD4-16803A7D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8B5F0-58FC-4476-9C09-F516C758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DB67F-0BDC-4BBF-BBD4-D9D5AFC4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387A8-0EB5-4834-939A-4F3146C2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56008-081F-417C-A970-09E22CBF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3DB20-293C-4E32-91EB-78CAB8B6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627D2-547E-4A32-A95E-90BDD3C3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21818-9BFE-4CF0-9049-CF44730E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EB4F3-6618-459F-BE09-18FAAEC3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34733-EFBB-4AA1-895E-691F4AB6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C3B8F-425C-4073-B5DF-34A09C48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C25-5614-4E23-8C9D-4BE62333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C9281-715C-4DEF-92E1-3D0033FB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FA616-B558-4907-93FB-31A04CE1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D9D9A-3857-4D3E-A164-D2210E92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6DEAC-C045-48FC-B0EA-CCF7D88E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BF489-BF86-4499-A586-F999C855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59DEE-238C-4023-865E-E7AD819D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F4D88-6706-45D5-9B3D-90972375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B3B97-E909-4290-895A-DA96F96C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CDBBA-C25A-4D08-AB99-341221BB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A5292-0EBE-4D77-A2F5-3CDE853A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B60-DF88-4938-8DDC-503AC101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3EFC8-EAAB-4828-94F6-2D2A0B7C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124B8-0D73-449F-86AF-6123D2F1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68ADC-D230-4CB9-A3E0-955C1B8A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0A13F-E2C9-419F-8A23-F35B3CF7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6B76A-1502-49D0-BF0E-D00D92ED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13D05-E653-4E2B-B5D3-0BAF08AC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2899A-4BF7-4C04-8C52-274BA645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4223D-FB64-4916-BB01-8C5B59DA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3A159-DA6A-4C97-B376-65689CDA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F219F-F5A2-4897-A033-1B40D3D1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C6E-834C-4394-B96E-70108155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76F92-3124-43B8-B89B-83D49539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E6E92-D9D4-4995-A51E-EF2B1AC9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4F114-5014-476C-BAD9-4E5F3D8F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02D28-1855-4ADB-BF66-7D317DDB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08C3B-37B2-4C90-92D0-5DDAF3C7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AB036-B368-4AFD-A753-E677520F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33968-ADF4-4809-B1A7-FE5650B7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170482-6D86-4F72-A5C1-377C6BC6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698D0-396E-45EA-A2BC-F77F3427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78CFC-E45C-4832-A23F-7360A0F7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A74D-DD75-4B58-8A01-A28D35545D9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6E18-413B-461C-94A6-7BAFA27E74A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3341-53DF-434C-B4C2-E235AEB448D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2259-A722-485B-A79D-0AF76E8B1DA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2BC4-0FE5-4047-82D1-607F34815C6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B37B-6275-4C4E-8FD8-A5E428F9860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5180-79E0-4539-B998-4AD4484FF85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EBE0-656A-4DF1-839C-D5B2F0E82C9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8DB4-CE86-4683-927C-106776141EE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BBA7-420C-4572-BB80-3916CEFE465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B2B2-C0E4-4388-92A2-B5BBD441E2E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172B-F743-498F-8523-68EF265D18B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nsultant.ru/document/cons_doc_LAW_164535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14360" y="100008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28760" y="285840"/>
            <a:ext cx="85010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Правила финансового обеспечения предупредительных мер по сокращению производственного травматизма и профессиональных заболевани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Рисунок 5" descr="&amp;Rcy;&amp;ocy;&amp;scy;&amp;tcy;&amp;rcy;&amp;ucy;&amp;dcy; &amp;vcy;&amp;ocy;&amp;scy;&amp;scy;&amp;tcy;&amp;acy;&amp;ncy;&amp;ocy;&amp;vcy;&amp;icy;&amp;lcy; &amp;pcy;&amp;rcy;&amp;acy;&amp;vcy;&amp;acy; &amp;bcy;&amp;ocy;&amp;lcy;&amp;iecy;&amp;iecy; 1000 &amp;rcy;&amp;acy;&amp;bcy;&amp;ocy;&amp;tcy;&amp;ncy;&amp;icy;&amp;kcy;&amp;ocy;&amp;vcy; &amp;gcy;&amp;iecy;&amp;ocy;&amp;fcy;&amp;icy;&amp;zcy;&amp;icy;&amp;chcy;&amp;iecy;&amp;scy;&amp;kcy;&amp;ocy;&amp;gcy;&amp;ocy; &amp;pcy;&amp;rcy;&amp;iecy;&amp;dcy;&amp;pcy;&amp;rcy;&amp;icy;&amp;yacy;&amp;tcy;&amp;icy;&amp;yacy;"/>
          <p:cNvPicPr/>
          <p:nvPr/>
        </p:nvPicPr>
        <p:blipFill>
          <a:blip r:embed="rId1"/>
          <a:stretch/>
        </p:blipFill>
        <p:spPr>
          <a:xfrm>
            <a:off x="596880" y="2114640"/>
            <a:ext cx="7662960" cy="316368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6"/>
          <p:cNvSpPr/>
          <p:nvPr/>
        </p:nvSpPr>
        <p:spPr>
          <a:xfrm>
            <a:off x="4786200" y="550080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Презентацию подготовила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заместитель директора по АХЧ МБВ(С)ОУ В(С)ОШ № 185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Ожогова В.П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СИЗ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и смывающие средств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еречень приобретаемых СИЗ с указанием профессий (должностей) работников, норм выдачи СИЗ со ссылкой на соответствующий пункт типовых норм, а также количества и стоимости приобретаемых СИЗ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еречень СИЗ, приобретаемых с учетом результатов проведения специальной оценки условий труда (если срок действия результатов аттестации рабочих мест по условиям труда, проведенной в соответствии с действовавшим до дня вступления в силу Федерального закона от 28 декабря 2013 г. N 426-ФЗ "О специальной оценке условий труда" (Собрание законодательства Российской Федерации, 2013, N 52, ст. 6991) порядком, не истек, то с учетом аттестации рабочих мест по условиям труда), с указанием профессий (должностей) работников, норм выдачи СИЗ, а также количества и стоимости приобретаемых СИЗ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46324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Территориальный</a:t>
            </a: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орган Фонда принимает решение об отказе в финансовом обеспечении предупредительных мер в следующих случаях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если у страхователя имеются недоимка по уплате страховых взносов, пени и штрафы, не погашенные на день подачи страхователем заявления в территориальный орган Фонда по месту своей регистраци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едставленные документы содержат недостоверную информацию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если предусмотренные бюджетом Фонда средства на финансовое обеспечение предупредительных мер на текущий год полностью распределены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ри представлении страхователем неполного комплекта документ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финансовом обеспечении предупредительных мер по другим основаниям не допускаетс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Ответственность учреждения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ахователь ведет в установленном порядке учет средств, направленных на финансовое обеспечение предупредительных мер в счет уплаты страховых взносов, и ежеквартально представляет в территориальный орган Фонда отчет об их использовани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сле завершения запланированных мероприятий страхователь представляет в территориальный орган Фонда документы, подтверждающие произведенные расход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Спасибо за внима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Нормативно-правовая база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МИНИСТЕРСТВО ТРУДА И СОЦИАЛЬНОЙ ЗАЩИТЫ РОССИЙСКОЙ ФЕДЕРАЦИИ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КАЗ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т 10 декабря 2012 г. N 580н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(в ред.от 20.02.2014г.)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Б УТВЕРЖДЕНИИ ПРАВИЛ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ФИНАНСОВОГО ОБЕСПЕЧЕНИЯ ПРЕДУПРЕДИТЕЛЬНЫХ МЕР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 СОКРАЩЕНИЮ ПРОИЗВОДСТВЕННОГО ТРАВМАТИЗМА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 ПРОФЕССИОНАЛЬНЫХ ЗАБОЛЕВАНИЙ РАБОТНИКОВ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 САНАТОРНО-КУРОРТНОГО ЛЕЧЕНИЯ РАБОТНИКОВ,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ЗАНЯТЫХ НА РАБОТАХ С ВРЕДНЫМИ И (ИЛИ) ОПАСНЫМИ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ОИЗВОДСТВЕННЫМИ ФАКТОРАМИ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85480"/>
            <a:ext cx="8534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Финансирование мероприятий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6760"/>
            <a:ext cx="85042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ведение  СОУТ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учение по охране труд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обретение работникам СИЗ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анаторно-курортное лечение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ведение обязательных периодических медицинских осмотров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обретение аптечек для оказания первой помощи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еспечение лечебно-профилактическим питанием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ликвидация вредных факторов на рабочем месте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 другие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Алгоритм действий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Содержимое 3" descr=""/>
          <p:cNvPicPr/>
          <p:nvPr/>
        </p:nvPicPr>
        <p:blipFill>
          <a:blip r:embed="rId1"/>
          <a:stretch/>
        </p:blipFill>
        <p:spPr>
          <a:xfrm>
            <a:off x="334800" y="1352520"/>
            <a:ext cx="838224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образец заявления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28760" y="150012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на фирменном бланке учрежден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г. Екатеринбург, Чапаева, 23б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иректору филиала № 1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ГУ - Свердловского регионального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отделения ФСС РФ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Иванченко Ю.В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ЗАЯВЛЕНИ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Сведения о страхователе: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Муниципальное  бюджетное вечернее (сменное) общеобразовательное учреждение вечерняя (сменная) общеобразовательная школа № 185 (МБВ(С)ОУ В(С)ОШ  № 185)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Регистрационный номер страхователя:  6611501539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Прошу рассчитать сумму финансового обеспечения предупредительных мер по сокращению производственного травматизма и профессиональных заболеваний в 2015 году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иректор МБВ(С)ОУ В(С)ОШ № 185                                В.М.Виноградова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«28» февраля 2015 года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Исп.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Уполномоченный по социальному страхованию Ожогова В.П.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тел. 8-908-925-78-16, 245-42-00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Для получения финансового обеспечения предупредительных мер страхователи должны представить в исполнительный орган Фонда пакет документов:</a:t>
            </a:r>
            <a:br>
              <a:rPr sz="1800"/>
            </a:b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1935000"/>
            <a:ext cx="82580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заявление о финансовом обеспечении предупредительных мер по установленной форм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план финансового обеспечения предупредительных мер по установленной форм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копия (выписка из) коллективного договора (соглашения по охране труда между работодателем и представительным органом работников) и (или) копия плана мероприятий по улучшению и оздоровлению условий труда в организации, разработанного по результатам аттестации рабочих мест по условиям труд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документы, обосновывающие финансовую необходимость выбранных предупредительных ме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356760"/>
            <a:ext cx="84852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Проведение специальной оценки условий труд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ю локального нормативного акта о создании комиссии по проведению специальной оценки условий труд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ю гражданско-правового договора с организацией, проводящей специальную оценку условий труда, с указанием количества рабочих мест, в отношении которых проводится специальная оценка условий труда, и стоимости проведения специальной оценки условий труда на указанном количестве рабочих мест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429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600" spc="-1" strike="noStrike">
                <a:solidFill>
                  <a:srgbClr val="665a00"/>
                </a:solidFill>
                <a:latin typeface="Georgia"/>
              </a:rPr>
              <a:t>реализация</a:t>
            </a:r>
            <a:r>
              <a:rPr b="0" lang="ru-RU" sz="1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65a00"/>
                </a:solidFill>
                <a:latin typeface="Georgia"/>
              </a:rPr>
              <a:t>мероприятий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</a:t>
            </a:r>
            <a:br>
              <a:rPr sz="1600"/>
            </a:br>
            <a:br>
              <a:rPr sz="1000"/>
            </a:br>
            <a:br>
              <a:rPr sz="1000"/>
            </a:br>
            <a:endParaRPr b="0" lang="en-US" sz="1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ю отчета о проведении специальной оценки условий труда, подтверждающего превышение предельно допустимых уровней воздействия вредных и (или) опасных производственных факторов на соответствующих рабочих местах (если срок действия результатов аттестации рабочих мест по условиям труда, проведенной в соответствии с действовавшим до дня вступления в силу Федерального </a:t>
            </a:r>
            <a:r>
              <a:rPr b="0" lang="ru-RU" sz="15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закона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от 28 декабря 2013 г. N 426-ФЗ "О специальной оценке условий труда" (Собрание законодательства Российской Федерации, 2013, N 52, ст. 6991) порядком, не истек, то представляются копии отчета о проведении аттестации рабочих мест по условиям труда)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ю отчета о проведении специальной оценки условий труда на соответствующих рабочих местах после реализации соответствующих мероприятий и свидетельствующего о снижении класса (подкласса) условий труда на соответствующих рабочих местах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и документов, подтверждающих приобретение организацией соответствующего оборудования и проведение работ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случае включения в план финансового обеспечения предупредительных мер мероприятий, не требующих приобретения оборудования, - копию договора на проведение соответствующих работ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4296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543"/>
                </a:solidFill>
                <a:latin typeface="Georgia"/>
              </a:rPr>
              <a:t> 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900" spc="-1" strike="noStrike">
                <a:solidFill>
                  <a:srgbClr val="323543"/>
                </a:solidFill>
                <a:latin typeface="Georgia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Обучение по охране труд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договор на обучение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счёт на оплату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ограммы обучения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уведомление о внесении в реестр Минсоцздравразвития аккредитованных организаций, оказывающих услуги в области охраны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иказ о направлении работников на обучение по охране труда с отрывом от производств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список работников, направляемых на обучение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иказ о назначении ответственного лица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4-21T04:55:46Z</dcterms:modified>
  <cp:revision>99</cp:revision>
  <dc:subject/>
  <dc:title>проведение аттестации рабочих мест по условиям труда;</dc:title>
</cp:coreProperties>
</file>